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9E9E-0F43-4A6C-BF00-D742D6393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132C-B9D8-4ABF-AEE2-20823E144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27160" y="66528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B66-D29B-4401-93B3-26E6C7CB4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208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B27-8876-4F77-B56C-808314859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090440" y="933480"/>
            <a:ext cx="4457880" cy="33433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98C7-B325-4E3F-8778-C26B8D9A9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092240" y="933480"/>
            <a:ext cx="4449600" cy="3336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7559-AE7B-4954-B03C-392A48B61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089000" y="933480"/>
            <a:ext cx="4487760" cy="33656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518-F608-4151-980E-457ED984A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092240" y="933480"/>
            <a:ext cx="4449600" cy="3336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B5AB-DD02-496A-BB50-B5646C10A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092240" y="933480"/>
            <a:ext cx="4449600" cy="3336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89B-2A6F-424D-BBDE-3ECC7D88D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74F72FB-0F0E-479F-9AF4-AEB160D3F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F64-A44E-447A-B6D2-A1DB09D5B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25AD056-3E80-4333-B5C4-8A2B82865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A21-FA5C-4B60-9211-1D9F43AFE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86AAF58-D2F5-4727-8B2D-1856B5809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8FB-91D0-45E5-8C95-D663CBDD4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9A49BA3-79F8-43F9-8B01-A9D7B940F9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208-8EAE-4BE8-BD3F-CE462AF15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2D7AB86-0385-482A-A758-C48852B124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C0A3-CE86-47DC-9FFF-A305D9AC2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9EA7FC8-33C1-418E-BDF6-B5C13C5D9E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9071-BFB7-473F-9708-E0C9E52C2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E6546AE-6210-421C-8402-47B5E6F3A4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FDC-8F98-4E7B-AC9F-D71473287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69FB5EE-D7F2-4717-A465-E25ABE06B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FC6F-813D-421D-B43D-EF072B300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A8C3EDD-ED20-4BE5-B762-BCC45AAA44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19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D86-2633-4AC7-83B7-BBA3B21E9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17440" y="6462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E6E-8501-49A0-AC63-23705F8F9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16000" y="6444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7A2-F4DC-4C7B-9AF8-A090355F8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22480" y="65556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9700-FFD4-46D0-B133-6C4829031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2D0ADE4-D583-4C0D-A423-6D4903BDD7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D91-D08D-4ADB-A7B7-95535AFFB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20680" y="6523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96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383-2A86-4193-8880-839B4395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5D0-9EB8-45A6-B38C-B20DBBBA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CFC-2E35-4AC4-93F6-2C9D717C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CCE-7139-48EE-9DF6-E9543B4E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AD1-0E41-4C69-A9CD-72497E2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E2D-7EDB-49A3-9F24-3A6630D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ED3-D7FD-464B-AFCD-8566537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C41-0046-43DF-8760-1AC9CDC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779-6979-4B2E-9FCF-23958A5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A77-5D32-4BD8-B1BC-DF32255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8D7-8B68-471D-ADDC-133B05C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5E6-7342-43BA-9783-453776A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97B9-29CE-4F71-A52C-BC3363A92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50" name="AutoShape 27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8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9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30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1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34" descr="j0301252"/>
          <p:cNvPicPr/>
          <p:nvPr/>
        </p:nvPicPr>
        <p:blipFill>
          <a:blip r:embed="rId2"/>
          <a:stretch/>
        </p:blipFill>
        <p:spPr>
          <a:xfrm>
            <a:off x="3132000" y="37162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6"/>
          <p:cNvSpPr/>
          <p:nvPr/>
        </p:nvSpPr>
        <p:spPr>
          <a:xfrm>
            <a:off x="0" y="1160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срочное пенсио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47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250920" y="5337000"/>
            <a:ext cx="6624720" cy="1081440"/>
          </a:xfrm>
          <a:prstGeom prst="rightArrowCallout">
            <a:avLst>
              <a:gd name="adj1" fmla="val 25002"/>
              <a:gd name="adj2" fmla="val 25000"/>
              <a:gd name="adj3" fmla="val 102097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работа в должностях:                    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педагога                  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педагога – воспитателя                      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медсестры ясельной групп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912000" y="5373720"/>
            <a:ext cx="1908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засчитывается в спецстаж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1.199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287280" y="1233360"/>
            <a:ext cx="6589800" cy="1403640"/>
          </a:xfrm>
          <a:prstGeom prst="rightArrowCallout">
            <a:avLst>
              <a:gd name="adj1" fmla="val 25002"/>
              <a:gd name="adj2" fmla="val 25000"/>
              <a:gd name="adj3" fmla="val 78247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(начальника, заведующего),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зам. директора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(начальника, заведующего) учреждений, указанных в пунктах:                                                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1.8 (детские сады и т.п.)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1.12 (МУПК и т.п.)                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2 (учреждения доп. образования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6877080" y="1305000"/>
            <a:ext cx="1908000" cy="3671640"/>
          </a:xfrm>
          <a:custGeom>
            <a:avLst/>
            <a:gdLst>
              <a:gd name="textAreaLeft" fmla="*/ 92880 w 1908000"/>
              <a:gd name="textAreaRight" fmla="*/ 1815120 w 1908000"/>
              <a:gd name="textAreaTop" fmla="*/ 92880 h 3671640"/>
              <a:gd name="textAreaBottom" fmla="*/ 3578760 h 3671640"/>
            </a:gdLst>
            <a:ahLst/>
            <a:rect l="textAreaLeft" t="textAreaTop" r="textAreaRight" b="textAreaBottom"/>
            <a:pathLst>
              <a:path w="21600" h="41562">
                <a:moveTo>
                  <a:pt x="3600" y="0"/>
                </a:moveTo>
                <a:arcTo wR="3600" hR="3600" stAng="16200000" swAng="-5400000"/>
                <a:lnTo>
                  <a:pt x="0" y="37962"/>
                </a:lnTo>
                <a:arcTo wR="3600" hR="3600" stAng="10800000" swAng="-5400000"/>
                <a:lnTo>
                  <a:pt x="18000" y="41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засчитывается в спецстаж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11.1999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287280" y="2816280"/>
            <a:ext cx="6589800" cy="2303280"/>
          </a:xfrm>
          <a:prstGeom prst="rightArrowCallout">
            <a:avLst>
              <a:gd name="adj1" fmla="val 25002"/>
              <a:gd name="adj2" fmla="val 25000"/>
              <a:gd name="adj3" fmla="val 47684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Работа в должностях:                    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помощника директора по режиму                  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старшего дежурного по режиму                      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дежурного по режиму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организатора внеклассной и внешкольной  воспитательной работы с детьми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воспитателя-методиста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инструктора слухового кабинета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             -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родителя воспитателя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                                                    Работа в должностях, указанных в Списке,  в детских домах семейного тип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60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50920" y="2097000"/>
            <a:ext cx="3600360" cy="3492720"/>
          </a:xfrm>
          <a:prstGeom prst="rightArrowCallout">
            <a:avLst>
              <a:gd name="adj1" fmla="val 25002"/>
              <a:gd name="adj2" fmla="val 25000"/>
              <a:gd name="adj3" fmla="val 17180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ях:                                             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едагога-психолога                                      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инструктора по тр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3851280" y="1305000"/>
            <a:ext cx="5149800" cy="5219640"/>
          </a:xfrm>
          <a:custGeom>
            <a:avLst/>
            <a:gdLst>
              <a:gd name="textAreaLeft" fmla="*/ 251280 w 5149800"/>
              <a:gd name="textAreaRight" fmla="*/ 4898520 w 5149800"/>
              <a:gd name="textAreaTop" fmla="*/ 251280 h 5219640"/>
              <a:gd name="textAreaBottom" fmla="*/ 4968360 h 5219640"/>
            </a:gdLst>
            <a:ahLst/>
            <a:rect l="textAreaLeft" t="textAreaTop" r="textAreaRight" b="textAreaBottom"/>
            <a:pathLst>
              <a:path w="21600" h="21893">
                <a:moveTo>
                  <a:pt x="3600" y="0"/>
                </a:moveTo>
                <a:arcTo wR="3600" hR="3600" stAng="16200000" swAng="-5400000"/>
                <a:lnTo>
                  <a:pt x="0" y="18293"/>
                </a:lnTo>
                <a:arcTo wR="3600" hR="3600" stAng="10800000" swAng="-5400000"/>
                <a:lnTo>
                  <a:pt x="18000" y="21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засчитывается в спецстаж в учреждениях, указанных в пункт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учреждения для детей - сирот и детей, оставшихся без попечения родителей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специальные (коррекционные) образовательные учреждения для обучающихся (воспитанников) с отклонениями в развит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.6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(специальные учебно-воспитательные учреждения открытого и закрытого тип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.11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образовательные учреждения для детей, нуждающихся в психолого - педагогической и медико-социальной помощ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.13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учреждения социального обслуживания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70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6732720" y="2241720"/>
            <a:ext cx="2268360" cy="3492360"/>
          </a:xfrm>
          <a:custGeom>
            <a:avLst/>
            <a:gdLst>
              <a:gd name="textAreaLeft" fmla="*/ 110520 w 2268360"/>
              <a:gd name="textAreaRight" fmla="*/ 2157840 w 2268360"/>
              <a:gd name="textAreaTop" fmla="*/ 110520 h 3492360"/>
              <a:gd name="textAreaBottom" fmla="*/ 3381840 h 3492360"/>
            </a:gdLst>
            <a:ahLst/>
            <a:rect l="textAreaLeft" t="textAreaTop" r="textAreaRight" b="textAreaBottom"/>
            <a:pathLst>
              <a:path w="21600" h="33253">
                <a:moveTo>
                  <a:pt x="3600" y="0"/>
                </a:moveTo>
                <a:arcTo wR="3600" hR="3600" stAng="16200000" swAng="-5400000"/>
                <a:lnTo>
                  <a:pt x="0" y="29653"/>
                </a:lnTo>
                <a:arcTo wR="3600" hR="3600" stAng="10800000" swAng="-5400000"/>
                <a:lnTo>
                  <a:pt x="18000" y="332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</a:rPr>
              <a:t>Второе условие: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в период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                      с 01.11.1999 г.              по 31.12.2000 г.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необходимо иметь факт работы (независимо от ее продолжительности)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в должностях                 и                                       в учреждениях дополнительного образования (п.2)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216000" y="2205000"/>
            <a:ext cx="2124000" cy="3456000"/>
          </a:xfrm>
          <a:custGeom>
            <a:avLst/>
            <a:gdLst>
              <a:gd name="textAreaLeft" fmla="*/ 103680 w 2124000"/>
              <a:gd name="textAreaRight" fmla="*/ 2020320 w 2124000"/>
              <a:gd name="textAreaTop" fmla="*/ 103680 h 3456000"/>
              <a:gd name="textAreaBottom" fmla="*/ 3352320 h 3456000"/>
            </a:gdLst>
            <a:ahLst/>
            <a:rect l="textAreaLeft" t="textAreaTop" r="textAreaRight" b="textAreaBottom"/>
            <a:pathLst>
              <a:path w="21600" h="35143">
                <a:moveTo>
                  <a:pt x="3600" y="0"/>
                </a:moveTo>
                <a:arcTo wR="3600" hR="3600" stAng="16200000" swAng="-5400000"/>
                <a:lnTo>
                  <a:pt x="0" y="31543"/>
                </a:lnTo>
                <a:arcTo wR="3600" hR="3600" stAng="10800000" swAng="-5400000"/>
                <a:lnTo>
                  <a:pt x="18000" y="35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</a:rPr>
              <a:t>Первое условие: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01.01.2001 г.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необходимо иметь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16 лет 8 месяцев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(2/3) стажа работы в должностях и в учреждениях, указанных в Списк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340000" y="1341360"/>
            <a:ext cx="4392720" cy="521964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0 h 5219640"/>
              <a:gd name="textAreaBottom" fmla="*/ 5220000 h 5219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                          в должностях                 и                                       в учреждениях дополнительного образования (п.2)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1.2001 г.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засчитывается в спецстаж при наличии </a:t>
            </a:r>
            <a:r>
              <a:rPr b="1" i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одновременно           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</a:rPr>
              <a:t>двух условий: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81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7164360" y="2313000"/>
            <a:ext cx="1836720" cy="305928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3059280"/>
              <a:gd name="textAreaBottom" fmla="*/ 2969640 h 3059280"/>
            </a:gdLst>
            <a:ahLst/>
            <a:rect l="textAreaLeft" t="textAreaTop" r="textAreaRight" b="textAreaBottom"/>
            <a:pathLst>
              <a:path w="21600" h="35975">
                <a:moveTo>
                  <a:pt x="3600" y="0"/>
                </a:moveTo>
                <a:arcTo wR="3600" hR="3600" stAng="16200000" swAng="-5400000"/>
                <a:lnTo>
                  <a:pt x="0" y="32375"/>
                </a:lnTo>
                <a:arcTo wR="3600" hR="3600" stAng="10800000" swAng="-5400000"/>
                <a:lnTo>
                  <a:pt x="18000" y="35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11.1999 г.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при условии обучения в указанных учреждениях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 50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детей в возрасте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18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2087640" y="1160640"/>
            <a:ext cx="5076720" cy="5581440"/>
          </a:xfrm>
          <a:custGeom>
            <a:avLst/>
            <a:gdLst>
              <a:gd name="textAreaLeft" fmla="*/ 1269000 w 5076720"/>
              <a:gd name="textAreaRight" fmla="*/ 3807720 w 5076720"/>
              <a:gd name="textAreaTop" fmla="*/ 0 h 5581440"/>
              <a:gd name="textAreaBottom" fmla="*/ 5581800 h 5581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работа в должностя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указанных в Списке и в учреждени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ечерних (сменных) общеобразовательных шк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ткрытых (сменных) общеобразовательных шк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центрах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ечерних (сменных) профессиональных училищ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бразовательных учреждениях среднего профессионального образования (средних специальных учебных заведениях)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засчитывается в спецстаж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179280" y="2457360"/>
            <a:ext cx="1908360" cy="3059280"/>
          </a:xfrm>
          <a:custGeom>
            <a:avLst/>
            <a:gdLst>
              <a:gd name="textAreaLeft" fmla="*/ 92880 w 1908360"/>
              <a:gd name="textAreaRight" fmla="*/ 1815480 w 1908360"/>
              <a:gd name="textAreaTop" fmla="*/ 92880 h 3059280"/>
              <a:gd name="textAreaBottom" fmla="*/ 2966400 h 3059280"/>
            </a:gdLst>
            <a:ahLst/>
            <a:rect l="textAreaLeft" t="textAreaTop" r="textAreaRight" b="textAreaBottom"/>
            <a:pathLst>
              <a:path w="21600" h="34624">
                <a:moveTo>
                  <a:pt x="3600" y="0"/>
                </a:moveTo>
                <a:arcTo wR="3600" hR="3600" stAng="16200000" swAng="-5400000"/>
                <a:lnTo>
                  <a:pt x="0" y="31024"/>
                </a:lnTo>
                <a:arcTo wR="3600" hR="3600" stAng="10800000" swAng="-5400000"/>
                <a:lnTo>
                  <a:pt x="18000" y="34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11.1999 г.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независимо от контингента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92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224000" y="225360"/>
            <a:ext cx="76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50920" y="1628640"/>
            <a:ext cx="3421080" cy="3780000"/>
          </a:xfrm>
          <a:prstGeom prst="rightArrowCallout">
            <a:avLst>
              <a:gd name="adj1" fmla="val 27625"/>
              <a:gd name="adj2" fmla="val 27623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 стаж работы засчитывается работа в должностях, указанных в Спис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 следующих структурных подразделениях организаци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независимо от того, предусмотрены эти организации в Списке или нет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3743280" y="1015920"/>
            <a:ext cx="5292720" cy="532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общеобразовательные школы всех наименований          (за исключением открытой (сменной) общеобразовательной школы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гимназ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межшкольный учебно-производственный комбинат трудового обучения и профессиональной ориентации учащихся (межшкольный учебный комбинат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школа-интерна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й са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ясли-сад (сад-ясли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е яс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технику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коллед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училищ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лиц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6"/>
          <p:cNvGrpSpPr/>
          <p:nvPr/>
        </p:nvGrpSpPr>
        <p:grpSpPr>
          <a:xfrm>
            <a:off x="179280" y="306360"/>
            <a:ext cx="8785440" cy="6551640"/>
            <a:chOff x="179280" y="306360"/>
            <a:chExt cx="8785440" cy="6551640"/>
          </a:xfrm>
        </p:grpSpPr>
        <p:sp>
          <p:nvSpPr>
            <p:cNvPr id="202" name="AutoShape 7"/>
            <p:cNvSpPr/>
            <p:nvPr/>
          </p:nvSpPr>
          <p:spPr>
            <a:xfrm>
              <a:off x="179280" y="30636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995640" y="37764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9" descr=""/>
            <p:cNvPicPr/>
            <p:nvPr/>
          </p:nvPicPr>
          <p:blipFill>
            <a:blip r:embed="rId1"/>
            <a:stretch/>
          </p:blipFill>
          <p:spPr>
            <a:xfrm>
              <a:off x="324000" y="30636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0"/>
            <p:cNvSpPr/>
            <p:nvPr/>
          </p:nvSpPr>
          <p:spPr>
            <a:xfrm>
              <a:off x="179280" y="599436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468360" y="649908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3"/>
          <p:cNvSpPr/>
          <p:nvPr/>
        </p:nvSpPr>
        <p:spPr>
          <a:xfrm>
            <a:off x="1079640" y="33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рядок применения нормативных а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учетом постановления КС РФ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29.01.2004 г. № 2-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5"/>
          <p:cNvSpPr txBox="1"/>
          <p:nvPr/>
        </p:nvSpPr>
        <p:spPr>
          <a:xfrm>
            <a:off x="539640" y="1665360"/>
            <a:ext cx="280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01.11.1999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WordArt 16"/>
          <p:cNvSpPr txBox="1"/>
          <p:nvPr/>
        </p:nvSpPr>
        <p:spPr>
          <a:xfrm>
            <a:off x="468360" y="2816280"/>
            <a:ext cx="284328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  01.11.1999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11.11.2002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17"/>
          <p:cNvSpPr txBox="1"/>
          <p:nvPr/>
        </p:nvSpPr>
        <p:spPr>
          <a:xfrm>
            <a:off x="503280" y="4184640"/>
            <a:ext cx="27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12.11.2002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3708360" y="1736640"/>
            <a:ext cx="1284480" cy="604800"/>
          </a:xfrm>
          <a:custGeom>
            <a:avLst/>
            <a:gdLst>
              <a:gd name="textAreaLeft" fmla="*/ 160560 w 1284480"/>
              <a:gd name="textAreaRight" fmla="*/ 1123920 w 1284480"/>
              <a:gd name="textAreaTop" fmla="*/ 151200 h 604800"/>
              <a:gd name="textAreaBottom" fmla="*/ 4536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9"/>
          <p:cNvSpPr/>
          <p:nvPr/>
        </p:nvSpPr>
        <p:spPr>
          <a:xfrm>
            <a:off x="3672000" y="2924280"/>
            <a:ext cx="1280880" cy="649080"/>
          </a:xfrm>
          <a:custGeom>
            <a:avLst/>
            <a:gdLst>
              <a:gd name="textAreaLeft" fmla="*/ 159840 w 1280880"/>
              <a:gd name="textAreaRight" fmla="*/ 1121040 w 128088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3708360" y="4005360"/>
            <a:ext cx="1281240" cy="649080"/>
          </a:xfrm>
          <a:custGeom>
            <a:avLst/>
            <a:gdLst>
              <a:gd name="textAreaLeft" fmla="*/ 159840 w 1281240"/>
              <a:gd name="textAreaRight" fmla="*/ 1121400 w 12812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21"/>
          <p:cNvSpPr txBox="1"/>
          <p:nvPr/>
        </p:nvSpPr>
        <p:spPr>
          <a:xfrm>
            <a:off x="5076720" y="1557360"/>
            <a:ext cx="38880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   </a:t>
            </a: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остановление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Совета Министров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РСФСР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т 06.09.1991 № 463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5" name="WordArt 22"/>
          <p:cNvSpPr txBox="1"/>
          <p:nvPr/>
        </p:nvSpPr>
        <p:spPr>
          <a:xfrm>
            <a:off x="5148360" y="2816280"/>
            <a:ext cx="377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остановление </a:t>
            </a:r>
            <a:endParaRPr b="1" i="1" lang="en-US" sz="14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равительства РФ </a:t>
            </a:r>
            <a:endParaRPr b="1" i="1" lang="en-US" sz="14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т 22.09.1999 № 1067 </a:t>
            </a:r>
            <a:endParaRPr b="1" i="1" lang="en-US" sz="14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6" name="WordArt 23"/>
          <p:cNvSpPr txBox="1"/>
          <p:nvPr/>
        </p:nvSpPr>
        <p:spPr>
          <a:xfrm>
            <a:off x="5256360" y="3897360"/>
            <a:ext cx="3563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остановление </a:t>
            </a:r>
            <a:endParaRPr b="1" i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равительства РФ </a:t>
            </a:r>
            <a:endParaRPr b="1" i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т 29.10.2002 № 781 </a:t>
            </a:r>
            <a:endParaRPr b="1" i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39640" y="4905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НИМАНИЕ!!! Применяется при необходим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3672000" y="5877000"/>
            <a:ext cx="1280880" cy="649080"/>
          </a:xfrm>
          <a:custGeom>
            <a:avLst/>
            <a:gdLst>
              <a:gd name="textAreaLeft" fmla="*/ 159840 w 1280880"/>
              <a:gd name="textAreaRight" fmla="*/ 1121040 w 128088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7"/>
          <p:cNvSpPr txBox="1"/>
          <p:nvPr/>
        </p:nvSpPr>
        <p:spPr>
          <a:xfrm>
            <a:off x="5003640" y="5481720"/>
            <a:ext cx="3997440" cy="10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   </a:t>
            </a: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Постановление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Совета Министров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>
                      <a:alpha val="99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СССР от 17.12.1959 № 1397 </a:t>
            </a:r>
            <a:endParaRPr b="1" i="1" lang="en-US" sz="1400" spc="1" strike="noStrike">
              <a:ln w="9360">
                <a:solidFill>
                  <a:srgbClr val="000000">
                    <a:alpha val="99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20" name="WordArt 28"/>
          <p:cNvSpPr txBox="1"/>
          <p:nvPr/>
        </p:nvSpPr>
        <p:spPr>
          <a:xfrm>
            <a:off x="179280" y="5589720"/>
            <a:ext cx="33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периоды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01.01.1960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30.09.1993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22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11"/>
          <p:cNvSpPr/>
          <p:nvPr/>
        </p:nvSpPr>
        <p:spPr>
          <a:xfrm>
            <a:off x="0" y="260280"/>
            <a:ext cx="914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16000" y="1233360"/>
          <a:ext cx="8712000" cy="5472360"/>
        </p:xfrm>
        <a:graphic>
          <a:graphicData uri="http://schemas.openxmlformats.org/drawingml/2006/table">
            <a:tbl>
              <a:tblPr/>
              <a:tblGrid>
                <a:gridCol w="4787640"/>
                <a:gridCol w="392436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именование  учре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именование 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колы   и   школы - интернаты всех типов и наимен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ицеи, гимназ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тернаты при общеобразовательных школ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колы-детские с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тские дошкольные учреждения всех 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детские сады, сады-ясли, детские яс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тские дома всех типов и наименований, дома ребенка, семейные детские д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жшкольные учебно-производственные комбинаты трудового обучения и профессиональной ориентаци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е специальные учебные заведения, коллед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фессионально-технические учебные заведения всех типов и наименований, высшие профессиональные училища (технические лице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нешкольные учреждения, в том числе детско-юношеские спортивные шко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директор (заведующ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заместитель директора (заведующ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оме заместителя директора (заведующ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 административно-хозяйственной работ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заведующий  учебной  ча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старший преподаватель, преподав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 родитель-воспит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 организатор внеклассной  и  внешко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итательной  работы с деть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омощник   директора   по  режиму, старш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журный   по   режиму, дежурный по режи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воспитатель,  старший  воспита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воспитатель – методи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мастер производственн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учитель, учитель-логопед, учитель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инструктор  слухового кабин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тренер – преподаватель, старший тренер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подав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военный руководитель (руковод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призывной подготовки молодежи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91"/>
          <p:cNvSpPr/>
          <p:nvPr/>
        </p:nvSpPr>
        <p:spPr>
          <a:xfrm>
            <a:off x="1008000" y="15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ановление  Совета Министров РСФ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06.09.1991 г. № 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2"/>
          <p:cNvSpPr/>
          <p:nvPr/>
        </p:nvSpPr>
        <p:spPr>
          <a:xfrm>
            <a:off x="611280" y="83664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ПИСОК ПРОФЕССИЙ И ДОЛ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32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64"/>
          <p:cNvSpPr/>
          <p:nvPr/>
        </p:nvSpPr>
        <p:spPr>
          <a:xfrm>
            <a:off x="576360" y="1449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5"/>
          <p:cNvSpPr/>
          <p:nvPr/>
        </p:nvSpPr>
        <p:spPr>
          <a:xfrm>
            <a:off x="250920" y="404640"/>
            <a:ext cx="8713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 стаж, дающий право на досрочную трудовую пенсию по старости,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ключается рабо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 штатных должностях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в учреждениях,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редусмотренных Списком от 06.09.1991 г. № 463,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зависимо от объема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ыполняемо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едагогической (учебной)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гру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едагогические работники, чьи должности не предусмотрены Списком, не имеют право на досрочную пенсию и в том случае, когда наряду с выполнением своих должностных обязанностей они вели педагогические часы с различной степенью учебной нагрузки , т.е. выполняли работу на условиях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часовой оплаты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месте с тем, в случае применения Правил исчисления периодов работы, утвержденных  Постановлением Правительства РФ от 22.09.1999 г. № 1067, в стаж на соответствующих видах работ может быть засчитана работа в соответствующих должностях и учреждениях на условиях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часовой оплаты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(т.е. педнагрузка) при выполнении ее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 1 ставку (за исключением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учителей нач. классов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общеобразовательных учреждений и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учителей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общеобразовательных школ, расположенных в сельской местност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Обращаем внимание, что в Списке от 1991 г. отсутствуют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«музыкальный руководитель»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«педагог дополнительного образования»,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(появились только в Списке от 1999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Кроме этого, в специальный стаж включается работа  за период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до 01.01.1992 г.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 должност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едагог-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медсестра ясельно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едаг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7"/>
          <p:cNvSpPr/>
          <p:nvPr/>
        </p:nvSpPr>
        <p:spPr>
          <a:xfrm>
            <a:off x="3024360" y="5516640"/>
            <a:ext cx="539640" cy="1044360"/>
          </a:xfrm>
          <a:custGeom>
            <a:avLst/>
            <a:gdLst>
              <a:gd name="textAreaLeft" fmla="*/ 0 w 539640"/>
              <a:gd name="textAreaRight" fmla="*/ 194760 w 539640"/>
              <a:gd name="textAreaTop" fmla="*/ 27000 h 1044360"/>
              <a:gd name="textAreaBottom" fmla="*/ 1017360 h 10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8"/>
          <p:cNvSpPr/>
          <p:nvPr/>
        </p:nvSpPr>
        <p:spPr>
          <a:xfrm>
            <a:off x="3780000" y="5481720"/>
            <a:ext cx="4103640" cy="11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аналоги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 Постановлении Правительства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от 29.10.2002 г. № 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42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8"/>
          <p:cNvSpPr/>
          <p:nvPr/>
        </p:nvSpPr>
        <p:spPr>
          <a:xfrm>
            <a:off x="576360" y="1449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108000" y="225360"/>
            <a:ext cx="8928000" cy="64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Обращаем внимание,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что Перечня внешкольных учреждений (т.е. учреждений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ополнительного образования детей) непосредственно в Списке от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06.09.1991 г. № 463 нет, поэтому в данном случае используютс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приказ Министерства просвещения от 14.11.1986г. № 227, приказ Гособразования СССР от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                          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23.04.1990г. и письмо Минобразования России от 24.03.1997 г. № 12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Согласно Перечню от 1997г. к учреждениям дополнительного образования детей относятся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центры (дополнительного образования детей, развития творчества детей и юношества, творческого развития и гуманитарного образования, детско-юношеский, детского творчества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ворцы (детского (юношеского) творчества, творчества детей и молодежи, учащейся молодежи, пионеров и школьников, юных натуралистов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ома (детского творчества, детства и юношества, учащейся молодежи, пионеров и школьников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клубы (юных моряков, речников, авиаторов, космонавтов, парашютистов, десантников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е студии (по различным видам искусств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станции (юных натуралистов, детского (юношеского) технического творчества (научно-технического, юных техников)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е парк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школы (по различным областям науки и техники, по различным видам искусств и др.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музеи (детского творчества, литературы и искусства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е оздоровительно-образовательные лагер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При включении в специальный стаж периодов работы в данных учреждениях необходимо уточнять, на какой вид деятельности выдана лицензия: на </a:t>
            </a:r>
            <a:r>
              <a:rPr b="1" i="1" lang="ru-RU" sz="1300" spc="-1" strike="noStrike" u="sng">
                <a:solidFill>
                  <a:srgbClr val="333399"/>
                </a:solidFill>
                <a:uFillTx/>
                <a:latin typeface="Arial"/>
              </a:rPr>
              <a:t>дополнительное образование детей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или на </a:t>
            </a:r>
            <a:r>
              <a:rPr b="1" i="1" lang="ru-RU" sz="1300" spc="-1" strike="noStrike" u="sng">
                <a:solidFill>
                  <a:srgbClr val="333399"/>
                </a:solidFill>
                <a:uFillTx/>
                <a:latin typeface="Arial"/>
              </a:rPr>
              <a:t>дополнительное образование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Право на указанную пенсию возникает лишь у работников, осуществляющих свою деятельность в учреждениях, получивших лицензию на </a:t>
            </a: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Arial"/>
              </a:rPr>
              <a:t>дополнительное образование детей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5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50" name="AutoShape 6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8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9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1"/>
          <p:cNvSpPr/>
          <p:nvPr/>
        </p:nvSpPr>
        <p:spPr>
          <a:xfrm>
            <a:off x="720" y="1160640"/>
            <a:ext cx="90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тановление  Правительства РФ от 22.09.1999 г. № 1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358920" y="2205000"/>
            <a:ext cx="3995640" cy="4105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ис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ностей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которых                     засчитыва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ыслугу, дающую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нсию за выслугу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язи с педагог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школах и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реждениях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896000" y="2205000"/>
            <a:ext cx="3960720" cy="4105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числения сроков вы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назначения пенсии за выслугу лет в связи с педагогической деятельностью в школах и других учреждениях для дет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2123640" y="1521000"/>
            <a:ext cx="190836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5400720" y="1521000"/>
            <a:ext cx="1727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58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0" y="1052640"/>
            <a:ext cx="91440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Федеральный закон от 17.12.2001 г. № 173-ФЗ «О трудовых пенсиях в РФ» - 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вступил в силу с 01.01.2002 г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тановление  Правительства РФ от 29.10.2002 г. № 781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вступило в силу с 12.11.2002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тановление Правительства РФ от 11.07.2002 г. № 5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вступило в силу  с 23.07.2002 г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рамках Постановления КС РФ от 29.01.2004 г. № 2-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тановление Совета Министров СССР от 17.12.1959 г. № 13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действовало в период с 01.01.1960 г. по 30.09.1993 г. (применяется в случае необходимости)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тановление Совета Министров РСФСР от 06.09.1991 г. № 4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действовало до 01.11.1999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тановление Правительства РФ от 22.09.1999 г. № 10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действовало с 01.11.1999 г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. по 11.11.2002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ъяснение Минтруда РФ от 22.05.1996 г. № 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нормативные док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61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8"/>
          <p:cNvSpPr/>
          <p:nvPr/>
        </p:nvSpPr>
        <p:spPr>
          <a:xfrm>
            <a:off x="0" y="108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остоит из двух частей: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1079640" y="225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исок должнос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твержденный Постановлением Правительства РФ от 22.09.1999 г. № 10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58920" y="1484280"/>
            <a:ext cx="3816360" cy="33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ервая часть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ключает перечень наименований должностей  (п. 1 раздела "Наименование должностей"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 учреждений (пп. 1 - 14 раздела "Наименование учреждений"), касающийся всех типов учреждений для детей, </a:t>
            </a:r>
            <a:r>
              <a:rPr b="1" i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 исключением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учреждений дополнительного образования детей (внешкольных учрежде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5040360" y="1484280"/>
            <a:ext cx="3743280" cy="33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торая часть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освящена учреждениям дополнительного образования детей (внешкольным учреждениям) - п. 2 раздела "Наименование должностей" и п. 15 раздела "Наименование учреждений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08000" y="4905360"/>
            <a:ext cx="88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оответственно,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. 1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должностей» применяется в совокупности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с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п. 1 - 14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учреждений», а </a:t>
            </a: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п. 2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"Наименование должностей" - только с </a:t>
            </a: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п. 15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учреждени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4176720" y="2960640"/>
            <a:ext cx="863640" cy="395280"/>
          </a:xfrm>
          <a:prstGeom prst="leftRightArrow">
            <a:avLst>
              <a:gd name="adj1" fmla="val 50000"/>
              <a:gd name="adj2" fmla="val 43495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 flipH="1">
            <a:off x="4248000" y="2744640"/>
            <a:ext cx="719280" cy="9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4211640" y="2744640"/>
            <a:ext cx="755640" cy="9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108000" y="5985000"/>
            <a:ext cx="90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писки 1991 и 1999 гг. различаются.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При этом одни должности (учреждения) были исключены из Списка от 1999 г., а другие, наоборот, добавлены в Список от 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76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287280" y="189000"/>
            <a:ext cx="864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 Правительств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равила от 22.09.1999 г. по желанию гражданина могут также применяться при исчислении специального стажа за периоды до 01.11.1999 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период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 01.11.1999 г. до 31.08.2000 г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в стаж на соответствующих видах работ  включается работ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штатных должностях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в учреждениях согласно Списку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зависимо от выполнения нормы рабоче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1.09.2000 г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в специальный стаж включается работа в должностях (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в том числе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з занятия штатной должности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), предусмотренных Списком, при условии ее выполнения (суммарно по основному и другим местам работы)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1 ставку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за исключением следующих случа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24000" y="4113360"/>
            <a:ext cx="6553080" cy="2520720"/>
          </a:xfrm>
          <a:prstGeom prst="rightArrowCallout">
            <a:avLst>
              <a:gd name="adj1" fmla="val 25002"/>
              <a:gd name="adj2" fmla="val 25000"/>
              <a:gd name="adj3" fmla="val 43328"/>
              <a:gd name="adj4" fmla="val 6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учителем начальных классов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общеобразовательных учреждени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учите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чальных общеобразовательных шко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сновных общеобразовательных шко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редних общеобразовательных школ , в том числе с углубленным изучением отдельных предметов,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расположенных в сельской мес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6912000" y="4473720"/>
            <a:ext cx="1908000" cy="18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объема выполняемой учебной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85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16000" y="14493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Кроме этого, в специальный стаж засчитыв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6767640" y="3068640"/>
            <a:ext cx="2268360" cy="3384720"/>
          </a:xfrm>
          <a:custGeom>
            <a:avLst/>
            <a:gdLst>
              <a:gd name="textAreaLeft" fmla="*/ 110520 w 2268360"/>
              <a:gd name="textAreaRight" fmla="*/ 2157840 w 2268360"/>
              <a:gd name="textAreaTop" fmla="*/ 110520 h 3384720"/>
              <a:gd name="textAreaBottom" fmla="*/ 3274200 h 3384720"/>
            </a:gdLst>
            <a:ahLst/>
            <a:rect l="textAreaLeft" t="textAreaTop" r="textAreaRight" b="textAreaBottom"/>
            <a:pathLst>
              <a:path w="21600" h="32229">
                <a:moveTo>
                  <a:pt x="3600" y="0"/>
                </a:moveTo>
                <a:arcTo wR="3600" hR="3600" stAng="16200000" swAng="-5400000"/>
                <a:lnTo>
                  <a:pt x="0" y="28629"/>
                </a:lnTo>
                <a:arcTo wR="3600" hR="3600" stAng="10800000" swAng="-5400000"/>
                <a:lnTo>
                  <a:pt x="18000" y="32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 условии ведения преподавательской работы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 часов в неделю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240 часов в год)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287280" y="1808280"/>
            <a:ext cx="6697800" cy="720720"/>
          </a:xfrm>
          <a:prstGeom prst="rightArrowCallout">
            <a:avLst>
              <a:gd name="adj1" fmla="val 25002"/>
              <a:gd name="adj2" fmla="val 25000"/>
              <a:gd name="adj3" fmla="val 154887"/>
              <a:gd name="adj4" fmla="val 6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домах ребенка (п.1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7020000" y="1665360"/>
            <a:ext cx="1981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только в должности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воспита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108000" y="2960640"/>
            <a:ext cx="2232000" cy="34560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3456000"/>
              <a:gd name="textAreaBottom" fmla="*/ 3347280 h 3456000"/>
            </a:gdLst>
            <a:ahLst/>
            <a:rect l="textAreaLeft" t="textAreaTop" r="textAreaRight" b="textAreaBottom"/>
            <a:pathLst>
              <a:path w="21600" h="33443">
                <a:moveTo>
                  <a:pt x="3600" y="0"/>
                </a:moveTo>
                <a:arcTo wR="3600" hR="3600" stAng="16200000" swAng="-5400000"/>
                <a:lnTo>
                  <a:pt x="0" y="29843"/>
                </a:lnTo>
                <a:arcTo wR="3600" hR="3600" stAng="10800000" swAng="-5400000"/>
                <a:lnTo>
                  <a:pt x="18000" y="33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едения препода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2340000" y="3033720"/>
            <a:ext cx="4427640" cy="3241800"/>
          </a:xfrm>
          <a:custGeom>
            <a:avLst/>
            <a:gdLst>
              <a:gd name="textAreaLeft" fmla="*/ 1107000 w 4427640"/>
              <a:gd name="textAreaRight" fmla="*/ 3321000 w 442764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учреждений, указанных 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1, 2 и 3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кром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детских домов, в том числе санаторных, специальных (коррекционных) для детей с отклонениями в развити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4 - 7, 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299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6767640" y="1628640"/>
            <a:ext cx="226836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 условии ведения преподавательской работы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60 часов в год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6696000" y="4041720"/>
            <a:ext cx="2270160" cy="2590920"/>
          </a:xfrm>
          <a:custGeom>
            <a:avLst/>
            <a:gdLst>
              <a:gd name="textAreaLeft" fmla="*/ 110520 w 2270160"/>
              <a:gd name="textAreaRight" fmla="*/ 2159640 w 2270160"/>
              <a:gd name="textAreaTop" fmla="*/ 110520 h 2590920"/>
              <a:gd name="textAreaBottom" fmla="*/ 2480400 h 2590920"/>
            </a:gdLst>
            <a:ahLst/>
            <a:rect l="textAreaLeft" t="textAreaTop" r="textAreaRight" b="textAreaBottom"/>
            <a:pathLst>
              <a:path w="21600" h="24651">
                <a:moveTo>
                  <a:pt x="3600" y="0"/>
                </a:moveTo>
                <a:arcTo wR="3600" hR="3600" stAng="16200000" swAng="-5400000"/>
                <a:lnTo>
                  <a:pt x="0" y="21051"/>
                </a:lnTo>
                <a:arcTo wR="3600" hR="3600" stAng="10800000" swAng="-5400000"/>
                <a:lnTo>
                  <a:pt x="18000" y="2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 ставка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 ведения преподавательской работы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3"/>
          <p:cNvSpPr/>
          <p:nvPr/>
        </p:nvSpPr>
        <p:spPr>
          <a:xfrm>
            <a:off x="142920" y="1665360"/>
            <a:ext cx="2232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едения препода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376360" y="1449360"/>
            <a:ext cx="4391280" cy="2341440"/>
          </a:xfrm>
          <a:custGeom>
            <a:avLst/>
            <a:gdLst>
              <a:gd name="textAreaLeft" fmla="*/ 1097640 w 4391280"/>
              <a:gd name="textAreaRight" fmla="*/ 3293640 w 439128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учреждений среднего  профессионального образова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7"/>
          <p:cNvSpPr/>
          <p:nvPr/>
        </p:nvSpPr>
        <p:spPr>
          <a:xfrm>
            <a:off x="2448000" y="4076640"/>
            <a:ext cx="4248000" cy="266544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етских домов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, в том числе санаторных, специальных (коррекционных) для детей с отклонениями в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142920" y="4005360"/>
            <a:ext cx="2270160" cy="2590560"/>
          </a:xfrm>
          <a:custGeom>
            <a:avLst/>
            <a:gdLst>
              <a:gd name="textAreaLeft" fmla="*/ 110520 w 2270160"/>
              <a:gd name="textAreaRight" fmla="*/ 2159640 w 2270160"/>
              <a:gd name="textAreaTop" fmla="*/ 110520 h 2590560"/>
              <a:gd name="textAreaBottom" fmla="*/ 2480040 h 2590560"/>
            </a:gdLst>
            <a:ahLst/>
            <a:rect l="textAreaLeft" t="textAreaTop" r="textAreaRight" b="textAreaBottom"/>
            <a:pathLst>
              <a:path w="21600" h="24648">
                <a:moveTo>
                  <a:pt x="3600" y="0"/>
                </a:moveTo>
                <a:arcTo wR="3600" hR="3600" stAng="16200000" swAng="-5400000"/>
                <a:lnTo>
                  <a:pt x="0" y="21048"/>
                </a:lnTo>
                <a:arcTo wR="3600" hR="3600" stAng="10800000" swAng="-5400000"/>
                <a:lnTo>
                  <a:pt x="18000" y="24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т нормы рабочего времени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и ведения преподавательской работы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13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34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5"/>
          <p:cNvSpPr/>
          <p:nvPr/>
        </p:nvSpPr>
        <p:spPr>
          <a:xfrm>
            <a:off x="2448000" y="1592280"/>
            <a:ext cx="4248000" cy="266544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ам. 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 УР, УВР, ПР, УПР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и др. работе, связанной с образовательным (воспитательным) процессом, учреждений: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1 - 7, 9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6"/>
          <p:cNvSpPr/>
          <p:nvPr/>
        </p:nvSpPr>
        <p:spPr>
          <a:xfrm>
            <a:off x="179280" y="1557360"/>
            <a:ext cx="2270160" cy="2590920"/>
          </a:xfrm>
          <a:custGeom>
            <a:avLst/>
            <a:gdLst>
              <a:gd name="textAreaLeft" fmla="*/ 110520 w 2270160"/>
              <a:gd name="textAreaRight" fmla="*/ 2159640 w 2270160"/>
              <a:gd name="textAreaTop" fmla="*/ 110520 h 2590920"/>
              <a:gd name="textAreaBottom" fmla="*/ 2480400 h 2590920"/>
            </a:gdLst>
            <a:ahLst/>
            <a:rect l="textAreaLeft" t="textAreaTop" r="textAreaRight" b="textAreaBottom"/>
            <a:pathLst>
              <a:path w="21600" h="24651">
                <a:moveTo>
                  <a:pt x="3600" y="0"/>
                </a:moveTo>
                <a:arcTo wR="3600" hR="3600" stAng="16200000" swAng="-5400000"/>
                <a:lnTo>
                  <a:pt x="0" y="21051"/>
                </a:lnTo>
                <a:arcTo wR="3600" hR="3600" stAng="10800000" swAng="-5400000"/>
                <a:lnTo>
                  <a:pt x="18000" y="2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т нормы рабочего времени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и ведения преподавательской работы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7"/>
          <p:cNvSpPr/>
          <p:nvPr/>
        </p:nvSpPr>
        <p:spPr>
          <a:xfrm>
            <a:off x="6732720" y="1557360"/>
            <a:ext cx="2270160" cy="2590920"/>
          </a:xfrm>
          <a:custGeom>
            <a:avLst/>
            <a:gdLst>
              <a:gd name="textAreaLeft" fmla="*/ 110520 w 2270160"/>
              <a:gd name="textAreaRight" fmla="*/ 2159640 w 2270160"/>
              <a:gd name="textAreaTop" fmla="*/ 110520 h 2590920"/>
              <a:gd name="textAreaBottom" fmla="*/ 2480400 h 2590920"/>
            </a:gdLst>
            <a:ahLst/>
            <a:rect l="textAreaLeft" t="textAreaTop" r="textAreaRight" b="textAreaBottom"/>
            <a:pathLst>
              <a:path w="21600" h="24651">
                <a:moveTo>
                  <a:pt x="3600" y="0"/>
                </a:moveTo>
                <a:arcTo wR="3600" hR="3600" stAng="16200000" swAng="-5400000"/>
                <a:lnTo>
                  <a:pt x="0" y="21051"/>
                </a:lnTo>
                <a:arcTo wR="3600" hR="3600" stAng="10800000" swAng="-5400000"/>
                <a:lnTo>
                  <a:pt x="18000" y="2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 ставка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 ведения преподавательской работы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216000" y="4545000"/>
            <a:ext cx="4535280" cy="1981080"/>
          </a:xfrm>
          <a:prstGeom prst="rightArrowCallout">
            <a:avLst>
              <a:gd name="adj1" fmla="val 25002"/>
              <a:gd name="adj2" fmla="val 25000"/>
              <a:gd name="adj3" fmla="val 38155"/>
              <a:gd name="adj4" fmla="val 6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ях:                                             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едагога-психолога                                      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-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инструктора по тр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4788000" y="4545000"/>
            <a:ext cx="4176720" cy="191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только в                               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учреждениях социального обслуживания (п.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25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6659640" y="1268280"/>
            <a:ext cx="2376360" cy="4645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4645080"/>
              <a:gd name="textAreaBottom" fmla="*/ 4529160 h 4645080"/>
            </a:gdLst>
            <a:ahLst/>
            <a:rect l="textAreaLeft" t="textAreaTop" r="textAreaRight" b="textAreaBottom"/>
            <a:pathLst>
              <a:path w="21600" h="42218">
                <a:moveTo>
                  <a:pt x="3600" y="0"/>
                </a:moveTo>
                <a:arcTo wR="3600" hR="3600" stAng="16200000" swAng="-5400000"/>
                <a:lnTo>
                  <a:pt x="0" y="38618"/>
                </a:lnTo>
                <a:arcTo wR="3600" hR="3600" stAng="10800000" swAng="-5400000"/>
                <a:lnTo>
                  <a:pt x="18000" y="422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</a:rPr>
              <a:t>Второе условие: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в период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                      с 01.11.1999 г.              по 31.12.2000 г.       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необходимо иметь факт работы (независимо от ее продолжительности)             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в должностях                 и                                       в учреждениях дополнительного образования, указанных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в п. 2 раздела «Наименование должностей»                и                                      п. 15 раздела «Наименование учреждений» Списка от 22.09.1999 г. № 106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1"/>
          <p:cNvSpPr/>
          <p:nvPr/>
        </p:nvSpPr>
        <p:spPr>
          <a:xfrm>
            <a:off x="250920" y="1305000"/>
            <a:ext cx="2124000" cy="4537080"/>
          </a:xfrm>
          <a:custGeom>
            <a:avLst/>
            <a:gdLst>
              <a:gd name="textAreaLeft" fmla="*/ 103680 w 2124000"/>
              <a:gd name="textAreaRight" fmla="*/ 2020320 w 2124000"/>
              <a:gd name="textAreaTop" fmla="*/ 103680 h 4537080"/>
              <a:gd name="textAreaBottom" fmla="*/ 4433400 h 4537080"/>
            </a:gdLst>
            <a:ahLst/>
            <a:rect l="textAreaLeft" t="textAreaTop" r="textAreaRight" b="textAreaBottom"/>
            <a:pathLst>
              <a:path w="21600" h="46136">
                <a:moveTo>
                  <a:pt x="3600" y="0"/>
                </a:moveTo>
                <a:arcTo wR="3600" hR="3600" stAng="16200000" swAng="-5400000"/>
                <a:lnTo>
                  <a:pt x="0" y="42536"/>
                </a:lnTo>
                <a:arcTo wR="3600" hR="3600" stAng="10800000" swAng="-5400000"/>
                <a:lnTo>
                  <a:pt x="18000" y="46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</a:rPr>
              <a:t>Первое условие: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01.01.2001 г.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необходимо иметь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16 лет 8 месяцев</a:t>
            </a: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(2/3) стажа работы в должностях и в учреждениях, указанных в Списке от 06.09.1991 г.      № 463                         и                                           в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Списке от 22.09.1999 г.                    № 106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2376360" y="1341360"/>
            <a:ext cx="4283280" cy="3924360"/>
          </a:xfrm>
          <a:custGeom>
            <a:avLst/>
            <a:gdLst>
              <a:gd name="textAreaLeft" fmla="*/ 1070640 w 4283280"/>
              <a:gd name="textAreaRight" fmla="*/ 3212640 w 4283280"/>
              <a:gd name="textAreaTop" fmla="*/ 0 h 3924360"/>
              <a:gd name="textAreaBottom" fmla="*/ 3924720 h 3924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                          в должностях                 и                                       в учреждениях дополнительного образования детей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1.2001 г.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засчитывается в спецстаж при наличии </a:t>
            </a:r>
            <a:r>
              <a:rPr b="1" i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одновременно           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</a:rPr>
              <a:t>двух условий: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36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7164360" y="2313000"/>
            <a:ext cx="1836720" cy="305928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3059280"/>
              <a:gd name="textAreaBottom" fmla="*/ 2969640 h 3059280"/>
            </a:gdLst>
            <a:ahLst/>
            <a:rect l="textAreaLeft" t="textAreaTop" r="textAreaRight" b="textAreaBottom"/>
            <a:pathLst>
              <a:path w="21600" h="35975">
                <a:moveTo>
                  <a:pt x="3600" y="0"/>
                </a:moveTo>
                <a:arcTo wR="3600" hR="3600" stAng="16200000" swAng="-5400000"/>
                <a:lnTo>
                  <a:pt x="0" y="32375"/>
                </a:lnTo>
                <a:arcTo wR="3600" hR="3600" stAng="10800000" swAng="-5400000"/>
                <a:lnTo>
                  <a:pt x="18000" y="35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11.1999 г.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при условии обучения в указанных учреждениях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 50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детей в возрасте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18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2087640" y="1160640"/>
            <a:ext cx="5076720" cy="5581440"/>
          </a:xfrm>
          <a:custGeom>
            <a:avLst/>
            <a:gdLst>
              <a:gd name="textAreaLeft" fmla="*/ 1269000 w 5076720"/>
              <a:gd name="textAreaRight" fmla="*/ 3807720 w 5076720"/>
              <a:gd name="textAreaTop" fmla="*/ 0 h 5581440"/>
              <a:gd name="textAreaBottom" fmla="*/ 5581800 h 5581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работа в соответствующих должностях и в учреждениях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вечерних (сменных) общеобразовательных школа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открытых (сменных) общеобразовательных школа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центрах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вечерних (сменных) профессиональных училища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0000"/>
                </a:solidFill>
                <a:latin typeface="Arial"/>
              </a:rPr>
              <a:t>учреждениях среднего профессионального образования (средних специальных учебных заведениях)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засчитывается в спецстаж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179280" y="2457360"/>
            <a:ext cx="1908360" cy="3059280"/>
          </a:xfrm>
          <a:custGeom>
            <a:avLst/>
            <a:gdLst>
              <a:gd name="textAreaLeft" fmla="*/ 92880 w 1908360"/>
              <a:gd name="textAreaRight" fmla="*/ 1815480 w 1908360"/>
              <a:gd name="textAreaTop" fmla="*/ 92880 h 3059280"/>
              <a:gd name="textAreaBottom" fmla="*/ 2966400 h 3059280"/>
            </a:gdLst>
            <a:ahLst/>
            <a:rect l="textAreaLeft" t="textAreaTop" r="textAreaRight" b="textAreaBottom"/>
            <a:pathLst>
              <a:path w="21600" h="34624">
                <a:moveTo>
                  <a:pt x="3600" y="0"/>
                </a:moveTo>
                <a:arcTo wR="3600" hR="3600" stAng="16200000" swAng="-5400000"/>
                <a:lnTo>
                  <a:pt x="0" y="31024"/>
                </a:lnTo>
                <a:arcTo wR="3600" hR="3600" stAng="10800000" swAng="-5400000"/>
                <a:lnTo>
                  <a:pt x="18000" y="34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11.1999 г.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независимо от контингента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47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216000" y="1952640"/>
            <a:ext cx="3421080" cy="3780000"/>
          </a:xfrm>
          <a:prstGeom prst="rightArrowCallout">
            <a:avLst>
              <a:gd name="adj1" fmla="val 27625"/>
              <a:gd name="adj2" fmla="val 27623"/>
              <a:gd name="adj3" fmla="val 16667"/>
              <a:gd name="adj4" fmla="val 66667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 стаж работы засчитывается работа в соответствующих должност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 следующих структурных подразделениях организаций,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предусмотренных Списк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"/>
          <p:cNvSpPr/>
          <p:nvPr/>
        </p:nvSpPr>
        <p:spPr>
          <a:xfrm>
            <a:off x="3672000" y="1484280"/>
            <a:ext cx="5292720" cy="475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общеобразовательная шко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лиц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гимназ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вечерняя (сменная) общеобразовательная шко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учебно-производственный комбина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школа-интерна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детский са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технику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училищ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коллед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профессиональное училищ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99"/>
                </a:solidFill>
                <a:latin typeface="Arial"/>
              </a:rPr>
              <a:t>профессиональный лиц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сроков вы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2.09.1999 г. № 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57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8"/>
          <p:cNvSpPr/>
          <p:nvPr/>
        </p:nvSpPr>
        <p:spPr>
          <a:xfrm>
            <a:off x="1016640" y="101592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тановление  СМ СССР от 17.12.1959 г. № 1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358920" y="2205000"/>
            <a:ext cx="3995640" cy="4105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еч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реждений, 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должностей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которых                     дает право на пенсию за выслугу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зде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896000" y="2205000"/>
            <a:ext cx="3960720" cy="4105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ение о порядк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числения ст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назначения пен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выслугу лет работникам пр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 flipH="1">
            <a:off x="2123640" y="1521000"/>
            <a:ext cx="1908360" cy="68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5400720" y="1521000"/>
            <a:ext cx="1727280" cy="68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68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2125440" y="40644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ановление  СМ СССР от 17.12.1959 г. № 13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431640" y="1065240"/>
            <a:ext cx="828072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ч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реждений, организаций  и должност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дел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чителя и другие работники просвещения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елится на под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ебные заведения и детские за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ибли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ечебные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ганы народ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ности, перечисленные внутри подразделов, относятся к тем учреждениям и организациям, напротив которых они указ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5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66" name="AutoShape 6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7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9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11"/>
          <p:cNvSpPr/>
          <p:nvPr/>
        </p:nvSpPr>
        <p:spPr>
          <a:xfrm>
            <a:off x="0" y="2600280"/>
            <a:ext cx="9144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дпункт 19 пункта 1 статьи 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аво на досрочную трудовую пенсию по старости предоставляетс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цам, не менее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лет осуществлявшим педагогическую деятельность в учреждениях для детей, независимо от их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 !!!  Наличие какой-либо продолжительности страх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жа не требуется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0" y="944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едеральный закон от 17.12.2001 г. № 173-Ф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О трудовых пенсиях в РФ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в ред. Федерального закона от 30.12.2008 г.         319-Ф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76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8"/>
          <p:cNvSpPr/>
          <p:nvPr/>
        </p:nvSpPr>
        <p:spPr>
          <a:xfrm>
            <a:off x="2125440" y="40644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ановление  СМ СССР от 17.12.1959 г. № 13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431640" y="800280"/>
            <a:ext cx="853308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ение о порядке исчисления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СНОВНЫЕ МО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иоды работы в качеств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вожатой (в т.ч. старшей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01.10.1993 г. в училищах, школах, пионерских лагерях и детских домах могут быть включены в специальный стаж при условии наличи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е менее 2/3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требуемого стажа работы в соответствующих должностях и учреждениях (т.е. не менее 16 лет 8 месяцев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а дату назначения пенси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еречне должн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узыкального работника (руководителя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не поименована, но данные работник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тских садов, яслей-садов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пользовались правом на пенсию за выслугу лет в соответствии с разъяснением Госкомтруда СССР № 19 от 17.05.1960г., независимо от занимаемой доли 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84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8"/>
          <p:cNvSpPr/>
          <p:nvPr/>
        </p:nvSpPr>
        <p:spPr>
          <a:xfrm>
            <a:off x="2125440" y="40644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ановление  СМ СССР от 17.12.1959 г. № 13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31640" y="800280"/>
            <a:ext cx="853308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ение о порядке исчисления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СНОВНЫЕ МО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иоды иной деятельности, указанной в пунктах 1-3 Положения, 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борная раб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ремя обучения на курсах повышения квалифик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ремя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педагогических учебных заведениях и университетах, если ему непосредственно предшествовала и непосредственно за ним следовала педагогическая 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жба в составе вооруженных сил ССС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 т.д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т быть включены в специальный стаж при условии наличи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е менее 2/3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требуемого стажа работы в соответствующих должностях и учреждениях (т.е. не менее 16 лет 8 месяцев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дату отмены Постановления № 1397, т.е. 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01.10.1993 г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392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20"/>
          <p:cNvSpPr/>
          <p:nvPr/>
        </p:nvSpPr>
        <p:spPr>
          <a:xfrm>
            <a:off x="1403280" y="476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тановление  Правительств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11.07.2002 г. № 5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216000" y="1376280"/>
            <a:ext cx="860580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Утверждены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ила исчисления периодов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работы, дающей право на  досрочное назначение трудовой пенсии по старости в соответствии со статьями 27 и 28 Федерального закона «О трудовых пенсиях в РФ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стерство здравоохранения и социального развития Р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 представлению федеральных органов исполнительной власти и по согласованию с Пенсионным фондом РФ наделено полномочиями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устанавлива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тождество профессий, должностей и организаций (структурных подразделений)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, предусмотренных статьей 27 Федерального закона "О трудовых пенсиях в РФ",  а также списками работ, профессий, должностей, специальностей и учреждений, с учетом которых досрочно назначается трудовая пенсия по старости, тем же профессиям, должностям и организациям (структурным подразделениям), имевшим ранее иные наиме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179280" y="115920"/>
            <a:ext cx="8785440" cy="6551640"/>
            <a:chOff x="179280" y="115920"/>
            <a:chExt cx="8785440" cy="6551640"/>
          </a:xfrm>
        </p:grpSpPr>
        <p:sp>
          <p:nvSpPr>
            <p:cNvPr id="400" name="AutoShape 3"/>
            <p:cNvSpPr/>
            <p:nvPr/>
          </p:nvSpPr>
          <p:spPr>
            <a:xfrm>
              <a:off x="179280" y="11592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"/>
            <p:cNvSpPr/>
            <p:nvPr/>
          </p:nvSpPr>
          <p:spPr>
            <a:xfrm>
              <a:off x="3995640" y="18720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1592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AutoShape 6"/>
            <p:cNvSpPr/>
            <p:nvPr/>
          </p:nvSpPr>
          <p:spPr>
            <a:xfrm>
              <a:off x="179280" y="580392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468360" y="630864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8"/>
          <p:cNvSpPr/>
          <p:nvPr/>
        </p:nvSpPr>
        <p:spPr>
          <a:xfrm>
            <a:off x="1258920" y="189000"/>
            <a:ext cx="72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ИЕ ПРАВИЛА ИСЧИСЛЕНИЯ ПЕРИОДОВ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вязи с педагогической деятель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независимо от времени осуществления трудовой деятельности и нормативных ак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50920" y="1484280"/>
            <a:ext cx="871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специальный стаж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ключаются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 периоды работы в соответствующих должностях и  учрежд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льничный лист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оплачиваемый перио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 ежегодные основной и дополнительный оплачиваемые отпу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отпуск по уходу за ребенком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 т.ч. до 3-х лет), имевший место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 06.10.1992 г.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акже отпуск по уходу, начавшийся до 06.10.1992г. и продолжавшийся после данной да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специальный стаж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Е включаются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отпуска без сохранения заработной пл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курсы повышения квалификации с отрывом от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учебные отпу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 другие периоды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течение которых отсутствует факт работы  в условиях, дающих право на досрочное пенсионное обеспе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409" name="AutoShape 4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5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Picture 6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AutoShape 7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9"/>
          <p:cNvSpPr/>
          <p:nvPr/>
        </p:nvSpPr>
        <p:spPr>
          <a:xfrm>
            <a:off x="539640" y="1052640"/>
            <a:ext cx="80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орядок  подтверждения спецстаж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документ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рудовая книж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. 6 Правил подсчета и подтверждения страхового ст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установления трудовых пенсий, утвержденных Постановлением Правительства РФ от 24 июля 2002 г. N 5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обходимых случаях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кументы, подтверждающие стаж на соответствующих видах рабо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. 5 Перечня документов, необходимых для установ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удовой пенсии, утвержденного постановлением Минтруда РФ и ПФР от 27 февраля 2002 г. N 16/19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417" name="AutoShape 4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5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6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7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9"/>
          <p:cNvSpPr/>
          <p:nvPr/>
        </p:nvSpPr>
        <p:spPr>
          <a:xfrm>
            <a:off x="216000" y="87300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подтверждения периодов работы, дающей право на досрочное назначение трудовой пенсии по старост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. Приказом Минздравсоцразвития РФ от 31.03.2011г. № 258н (в силу с 07.06.2011г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ы работы, дающей право на досрочное назначение трудовой пенсии по старости, подтвержд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 регистр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жданина в качестве застрахованного лица в системе ПУ - документами, выдаваемыми работодателями или соответствующими государственными (муниципальными) орга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ле регистр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жданина в качестве застрахованного лица - на основании сведений индивидуального (персонифицированного) у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425" name="AutoShape 4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6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AutoShape 7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431640" y="1598760"/>
            <a:ext cx="82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12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ил обращения за назначением пенс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утв. постановлением Минтруда РФ и ПФР от 27.02.2002г. № 17/19п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альным органам предоставлен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необходимых случаях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веря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основанность  выдачи документов, подтверждающих стаж на соответствующих видах работ, на предмет достоверности сведений, содержащихся в этих докум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433" name="AutoShape 4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6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AutoShape 7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9"/>
          <p:cNvSpPr/>
          <p:nvPr/>
        </p:nvSpPr>
        <p:spPr>
          <a:xfrm>
            <a:off x="142920" y="907920"/>
            <a:ext cx="900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 к оформлению уточняющих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омер и дата выдачи справки (угловой штамп при наличии)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амилия, имя, отчество застрахованного л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исло, месяц и год его рож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есто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период раб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долж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труктурное подразделение, где работал граждан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периоды отсутствия  работы, дающей право на Д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снование  выдачи (приказы, лицевые счета и другие документы с указанием реквизитов и только за тот период, когда производилась деятельность, дающая право на досрочное назначение пенсии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0" y="285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3"/>
          <p:cNvGrpSpPr/>
          <p:nvPr/>
        </p:nvGrpSpPr>
        <p:grpSpPr>
          <a:xfrm>
            <a:off x="216000" y="152280"/>
            <a:ext cx="8785080" cy="6516360"/>
            <a:chOff x="216000" y="152280"/>
            <a:chExt cx="8785080" cy="6516360"/>
          </a:xfrm>
        </p:grpSpPr>
        <p:sp>
          <p:nvSpPr>
            <p:cNvPr id="441" name="AutoShape 4"/>
            <p:cNvSpPr/>
            <p:nvPr/>
          </p:nvSpPr>
          <p:spPr>
            <a:xfrm>
              <a:off x="216000" y="1522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5"/>
            <p:cNvSpPr/>
            <p:nvPr/>
          </p:nvSpPr>
          <p:spPr>
            <a:xfrm>
              <a:off x="4032000" y="222840"/>
              <a:ext cx="489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6" descr=""/>
            <p:cNvPicPr/>
            <p:nvPr/>
          </p:nvPicPr>
          <p:blipFill>
            <a:blip r:embed="rId1"/>
            <a:stretch/>
          </p:blipFill>
          <p:spPr>
            <a:xfrm>
              <a:off x="360360" y="152280"/>
              <a:ext cx="891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AutoShape 7"/>
            <p:cNvSpPr/>
            <p:nvPr/>
          </p:nvSpPr>
          <p:spPr>
            <a:xfrm>
              <a:off x="216000" y="5809680"/>
              <a:ext cx="8785080" cy="85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504720" y="6311880"/>
              <a:ext cx="410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9"/>
          <p:cNvSpPr/>
          <p:nvPr/>
        </p:nvSpPr>
        <p:spPr>
          <a:xfrm>
            <a:off x="431640" y="1015920"/>
            <a:ext cx="828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писывается уточняющая справка руководите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и и начальником отдела кадров (при наличии такого отдела в организац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сылке на финансовые документы справка  должна содержать и подпись главного бухгалтера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ать должна быть организации, а не отдела кад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имелось переименование учреждения (организации), необходимо подтвердить факт правопреем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правка оформляется на 2-х и более листах, то рекомендуем печатать ее с двух сторон или на втором листе ставить штамп организации (писать «продолжение справки №____ от _________») или сшивать листы и скреплять печатью и подпис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24000" y="-213120"/>
            <a:ext cx="7020000" cy="21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-ОТДЕЛЕНИЕ ПЕНСИОННОГО ФОНДА Р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МСКОЙ ОБЛА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2240" cy="13428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1258920" y="2479680"/>
            <a:ext cx="765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Федеральный закон от 28.12.2013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00-Ф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«О  страховых пенсиях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132000" y="6093000"/>
            <a:ext cx="352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1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3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74" name="AutoShape 6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8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AutoShape 10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9"/>
          <p:cNvSpPr/>
          <p:nvPr/>
        </p:nvSpPr>
        <p:spPr>
          <a:xfrm>
            <a:off x="0" y="692280"/>
            <a:ext cx="91440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ники образования могут осуществлять педагогическую деятельность как при занятии штатной должности, так и при условиях почасовой оплаты, т.е. без занятия штатной дол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од нормо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«занятие штатной должности»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едусматривается  занятие определенной должности согласно трудовому договору, заключенному между работником и образовательным учреждением, а также оформление этого трудового договора приказом (распоряжением) работод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соответствующих должностях в учреждениях при занятии штатной должности включается в специальный стаж независимо от нормативных актов, в соответствии с которыми назначается трудовая пенсия по стар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на условиях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часовой оплаты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без занятия штатной должности) осуществляется без оформления трудового договора. Выполнение данной работы допускается в основное рабочее время с согласия работод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Такая работа может быть принята во внимание при исчислении стажа педагогической деятельности с учетом Постановления КС РФ от 29.01.2004 г. № 2-П при соблюдении  одновременно следующих усло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если она осуществлялась за периоды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11.1999 г.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(в случае применения Правил от 22.09.1999 г.)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ил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 по 11.11.2002 г.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если выполняемая норма рабочего времени (педагогической или учебной нагрузки) установлена за ставку заработной платы (должностной оклад), т.е. рабо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 1 ставку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2484360" y="360360"/>
            <a:ext cx="583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о обратиться за страховой пенсией им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2"/>
          <p:cNvSpPr/>
          <p:nvPr/>
        </p:nvSpPr>
        <p:spPr>
          <a:xfrm>
            <a:off x="720720" y="1800360"/>
            <a:ext cx="324000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ажд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"/>
          <p:cNvSpPr/>
          <p:nvPr/>
        </p:nvSpPr>
        <p:spPr>
          <a:xfrm>
            <a:off x="5040360" y="1800360"/>
            <a:ext cx="341928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бото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79280" y="3060720"/>
            <a:ext cx="216072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 в орган, осуществляющий пенсио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700360" y="3060720"/>
            <a:ext cx="197964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Ф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месту          ж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5219640" y="3060720"/>
            <a:ext cx="161928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оять в трудовых отношениях с З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7199280" y="3060720"/>
            <a:ext cx="161928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личие письменного согласия З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2959200" y="1484280"/>
            <a:ext cx="60480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5759280" y="1440000"/>
            <a:ext cx="72072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>
            <a:off x="1226880" y="2700360"/>
            <a:ext cx="2458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3060720" y="270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2"/>
          <p:cNvSpPr/>
          <p:nvPr/>
        </p:nvSpPr>
        <p:spPr>
          <a:xfrm flipH="1">
            <a:off x="5727600" y="2700360"/>
            <a:ext cx="246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7559640" y="270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4"/>
          <p:cNvSpPr/>
          <p:nvPr/>
        </p:nvSpPr>
        <p:spPr>
          <a:xfrm>
            <a:off x="360360" y="5219640"/>
            <a:ext cx="468000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о соглашение о взаимодействии между МФЦ и органом, осуществляющим пенсио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5219640" y="5040360"/>
            <a:ext cx="3780000" cy="16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ача заявлений предусмотрена перечнем гос. и муниц. услуг, предоставляемых  в МФЦ, установленным согла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 flipH="1">
            <a:off x="3206880" y="4859280"/>
            <a:ext cx="4269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7"/>
          <p:cNvSpPr/>
          <p:nvPr/>
        </p:nvSpPr>
        <p:spPr>
          <a:xfrm>
            <a:off x="4140360" y="4859280"/>
            <a:ext cx="126036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 flipH="1">
            <a:off x="3390840" y="2340000"/>
            <a:ext cx="16797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949400" y="2340000"/>
            <a:ext cx="31212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0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1692360" y="179280"/>
            <a:ext cx="67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979640" y="179280"/>
            <a:ext cx="5940360" cy="1079640"/>
          </a:xfrm>
          <a:prstGeom prst="flowChartPunchedTap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ОДАЧИ ЗАЯ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"/>
          <p:cNvSpPr/>
          <p:nvPr/>
        </p:nvSpPr>
        <p:spPr>
          <a:xfrm>
            <a:off x="2879640" y="1440000"/>
            <a:ext cx="4319640" cy="1079280"/>
          </a:xfrm>
          <a:prstGeom prst="wedgeRectCallout">
            <a:avLst>
              <a:gd name="adj1" fmla="val -25472"/>
              <a:gd name="adj2" fmla="val 942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ом числе 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форме электронного докум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079640" y="3060720"/>
            <a:ext cx="7740360" cy="36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Заявление о переводе на страховую пенсию, заявление о переводе с одного вида страховой пенсии на другой, заявление о перерасчете размера страховой пенсии или заявление о выплате страховой пенсии, поданные в указанной форме, принимается, органом осуществляющим пенсионное обеспечение, в случае представления заявителем необходимых документов, подлежащих представлению с учетом положений части 7 статьи 21, не ПОЗДНЕЕ 5 РАБОЧИХ ДНЕЙ СО ДНЯ ПОДАЧИ соответствующего заяв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1"/>
          <p:cNvSpPr/>
          <p:nvPr/>
        </p:nvSpPr>
        <p:spPr>
          <a:xfrm>
            <a:off x="2411280" y="179280"/>
            <a:ext cx="6408720" cy="1440000"/>
          </a:xfrm>
          <a:prstGeom prst="wedgeRoundRectCallout">
            <a:avLst>
              <a:gd name="adj1" fmla="val -20314"/>
              <a:gd name="adj2" fmla="val 8526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риеме заявления орган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щий пенсионное обеспечение, дает лицу, обратившемуся за пенсией, разъяснения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2"/>
          <p:cNvSpPr/>
          <p:nvPr/>
        </p:nvSpPr>
        <p:spPr>
          <a:xfrm>
            <a:off x="720720" y="2160720"/>
            <a:ext cx="7740720" cy="12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 предоставлении документов личного хран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39640" y="3600360"/>
            <a:ext cx="8099640" cy="28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 праве заявителя представить по собственной инициативе документы, находящиеся в распоряжении иных гос. органов, органов местного самоуправления либо в подведомственных гос. органам или органам  местного самоуправления организаций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1"/>
          <p:cNvSpPr/>
          <p:nvPr/>
        </p:nvSpPr>
        <p:spPr>
          <a:xfrm>
            <a:off x="2050920" y="189000"/>
            <a:ext cx="6913800" cy="1611360"/>
          </a:xfrm>
          <a:prstGeom prst="wedgeRoundRectCallout">
            <a:avLst>
              <a:gd name="adj1" fmla="val -26074"/>
              <a:gd name="adj2" fmla="val 9522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риеме заявления орган, осуществляющий пенсионное обеспечение, дает лицу, обратившемуся за перерасчетом размера страховой пенсии, разъяс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"/>
          <p:cNvSpPr/>
          <p:nvPr/>
        </p:nvSpPr>
        <p:spPr>
          <a:xfrm>
            <a:off x="539640" y="2519280"/>
            <a:ext cx="8099640" cy="395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праве заявителя представить по собственной инициативе документы, находящиеся в распоряжении иных гос. органов, органов местного самоуправления либо в подведомственных гос. органам или органам  местного самоуправления организац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Oval 1"/>
          <p:cNvSpPr/>
          <p:nvPr/>
        </p:nvSpPr>
        <p:spPr>
          <a:xfrm>
            <a:off x="2158920" y="5838840"/>
            <a:ext cx="914400" cy="460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835280" y="476280"/>
            <a:ext cx="6805440" cy="720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ОКИ РАССМОТРЕНИЯ ЗА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900000" y="1557360"/>
            <a:ext cx="306072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НАЧЕНИЕ ИЛИ  ПЕР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5040360" y="1557360"/>
            <a:ext cx="341928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РАСЧЕТ РАЗМЕРА СТРАХОВОЙ ПЕН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1800360" y="2700360"/>
            <a:ext cx="1079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6119640" y="2700360"/>
            <a:ext cx="1079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7"/>
          <p:cNvSpPr/>
          <p:nvPr/>
        </p:nvSpPr>
        <p:spPr>
          <a:xfrm>
            <a:off x="539640" y="3060720"/>
            <a:ext cx="3780000" cy="12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зднее чем через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 рабочих д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8"/>
          <p:cNvSpPr/>
          <p:nvPr/>
        </p:nvSpPr>
        <p:spPr>
          <a:xfrm>
            <a:off x="4859280" y="3060720"/>
            <a:ext cx="3959280" cy="12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зднее чем через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рабочих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9640" y="4500720"/>
            <a:ext cx="8280360" cy="21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о дня приема заявления со всеми необходимыми документами, подлежащими представлению заявителем с учетом положений ч.7 и 8 ст.21 настоящего Федерального зак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о дня поступления документов, запрошенных органом, осуществляющим пенсионное обеспечение, в иных гос.органах, органах местного самоуправления либо подведомственных гос.органам или органам местного самоуправления организ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190440" y="314280"/>
            <a:ext cx="876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2160720" y="189000"/>
            <a:ext cx="6480000" cy="1071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остановление срока рассмотрения заявления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900000" y="1619280"/>
            <a:ext cx="251964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лучае проведения проверки документов, необходимых для установления страховой пен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4859280" y="1619280"/>
            <a:ext cx="3780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лучае непредставления гос.органами, органами местного самоуправления либо подведомственными гос.органам или  органам местного самоуправления организациями в установленный с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"/>
          <p:cNvSpPr/>
          <p:nvPr/>
        </p:nvSpPr>
        <p:spPr>
          <a:xfrm>
            <a:off x="539640" y="4319640"/>
            <a:ext cx="8280360" cy="21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 приостанавливается до завершения проверки, представления документов, запрошенных в указанных органах и организациях, 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более чем на три меся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 flipH="1">
            <a:off x="2671560" y="1260360"/>
            <a:ext cx="2365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5580000" y="126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304920" y="6858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403280" y="189000"/>
            <a:ext cx="7345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иды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траховых пенсий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2682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ховая пенсия по стар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траховая пенсия по инвалид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траховая пенсия по случаю потери корми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914400" y="152280"/>
            <a:ext cx="7772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762120" y="30765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Условия назначения страховой пенсии по стар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57200" y="4495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раст: женщины-55 лет, мужчины-60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траховой стаж- не менее15 лет (поэтап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ПК - не менее 30 (поэтапно) –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ля всех пенсий по старости, в.т.ч досроч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6224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"/>
          <p:cNvSpPr/>
          <p:nvPr/>
        </p:nvSpPr>
        <p:spPr>
          <a:xfrm>
            <a:off x="304920" y="6858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1547640" y="260280"/>
            <a:ext cx="759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ходные положения по стажу, необходимого для назначения пен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0880" y="1523880"/>
            <a:ext cx="83822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5 год                          6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6 год                          7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7 год                          8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8 год                          9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9 год                         1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0 год                         11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1 год                        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2 год                         13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3 год                        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4 и далее                 1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62120" y="0"/>
            <a:ext cx="77724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914400" y="152280"/>
            <a:ext cx="7772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6188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"/>
          <p:cNvSpPr/>
          <p:nvPr/>
        </p:nvSpPr>
        <p:spPr>
          <a:xfrm>
            <a:off x="304920" y="6858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1619280" y="189000"/>
            <a:ext cx="7524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ходные положения по ИПК,   необходимого для назначения пен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57200" y="1219320"/>
            <a:ext cx="838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5 год                          6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6 год                          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7 год                          1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8 год                          13,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19 год                          16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0 год                          18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1 год                         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2 год                          2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3 год                          25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4 год                          28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25 год  и далее           30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762120" y="0"/>
            <a:ext cx="77724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914400" y="152280"/>
            <a:ext cx="7772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6188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81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0"/>
          <p:cNvSpPr/>
          <p:nvPr/>
        </p:nvSpPr>
        <p:spPr>
          <a:xfrm>
            <a:off x="0" y="10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тановление  Правительства РФ от 29.10.2002 г. № 7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1808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358920" y="1952640"/>
            <a:ext cx="3995640" cy="41054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ис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ностей и учрежд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которых                        засчит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аж работы, дающей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осрочное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овой пенсии по стар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ам, осуществля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чреждениях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4896000" y="1952640"/>
            <a:ext cx="3960720" cy="41054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числения периодов работы,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ающей право на досрочное назначение трудовой пенсии по старости лицам, осуществлявшим педагогическ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чреждениях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H="1">
            <a:off x="2015640" y="1376280"/>
            <a:ext cx="20876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5003640" y="1376280"/>
            <a:ext cx="190836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609480" y="4343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0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0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2209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539640" y="24210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0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= ИП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х СПК (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0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1619280" y="333360"/>
            <a:ext cx="7200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змер страховой пенсии по Федеральному зако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 28.12.2013 № 400-Ф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971640" y="3789360"/>
            <a:ext cx="3012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ивидуаль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нсион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эффициен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716360" y="3789360"/>
            <a:ext cx="4176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оимость одного пенсионного коэффи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01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д – 64,10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"/>
          <p:cNvSpPr/>
          <p:nvPr/>
        </p:nvSpPr>
        <p:spPr>
          <a:xfrm flipH="1">
            <a:off x="3390480" y="3068640"/>
            <a:ext cx="5605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5651640" y="299736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0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224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24000" y="123840"/>
            <a:ext cx="686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размера величины индивидуального пенсионного коэффици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124080" y="1752480"/>
            <a:ext cx="396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250920" y="162864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60360" y="1547640"/>
            <a:ext cx="8569440" cy="115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ПК=(ИПКс + ИПКн) х КвСП(в баллах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"/>
          <p:cNvSpPr/>
          <p:nvPr/>
        </p:nvSpPr>
        <p:spPr>
          <a:xfrm>
            <a:off x="0" y="3429000"/>
            <a:ext cx="3995640" cy="216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нсион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2015 год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деральному закону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7.12.2001 № 173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"/>
          <p:cNvSpPr/>
          <p:nvPr/>
        </p:nvSpPr>
        <p:spPr>
          <a:xfrm>
            <a:off x="3492360" y="5157720"/>
            <a:ext cx="3672000" cy="151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нсионны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148360" y="3357720"/>
            <a:ext cx="3995640" cy="1655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эффициент за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здний выход на пенс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 flipH="1">
            <a:off x="2239560" y="2852640"/>
            <a:ext cx="273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4284720" y="2852640"/>
            <a:ext cx="216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6300720" y="2852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1763640" y="123840"/>
            <a:ext cx="722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ЧЕТ ПЕНСИОННЫХ ПРАВ - ИПКн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ле 01.01.2015 год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1403280" y="1197000"/>
            <a:ext cx="1600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П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2879640" y="14400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5257800" y="16765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3780000" y="17305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04920" y="22860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2971800" y="541008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4572000" y="56386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3995640" y="1484280"/>
            <a:ext cx="4753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ПКi+ΣНПi)/К/К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539640" y="3240000"/>
            <a:ext cx="828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ΣИПКi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умма индивиду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пенсионных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 01.01.201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ΣНПi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умма коэффи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иных периодов  засчитываемых в страх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та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(по старости-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по инв-ти и СПК- в зависимости от стаж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КН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количество нетрудоспособ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мьи умершего корми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1" descr=""/>
          <p:cNvPicPr/>
          <p:nvPr/>
        </p:nvPicPr>
        <p:blipFill>
          <a:blip r:embed="rId1"/>
          <a:stretch/>
        </p:blipFill>
        <p:spPr>
          <a:xfrm>
            <a:off x="179280" y="0"/>
            <a:ext cx="136224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1692360" y="123840"/>
            <a:ext cx="72993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ЧЕТ ИПК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 01.01.2015 года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дивидуального пенсионного коэффициента в баллах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"/>
          <p:cNvSpPr/>
          <p:nvPr/>
        </p:nvSpPr>
        <p:spPr>
          <a:xfrm>
            <a:off x="3851280" y="2637000"/>
            <a:ext cx="12952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3635280" y="270828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СВг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32000" y="2060640"/>
            <a:ext cx="1600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П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3635280" y="1916280"/>
            <a:ext cx="1752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г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2843280" y="227664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5364000" y="22050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6227640" y="2276640"/>
            <a:ext cx="1368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, 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324000" y="32130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мма страховых взносов за соответствующий г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324000" y="4221000"/>
            <a:ext cx="8305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СВго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ый размер вз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тариф отчисл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дельная заработная пла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1763640" y="189000"/>
            <a:ext cx="723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914400" y="152280"/>
            <a:ext cx="7772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195640" y="0"/>
            <a:ext cx="6624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р расчета ИП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ля лиц,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торых взносы на формирование накопите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сти не начис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916360" y="1484280"/>
            <a:ext cx="331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/П – 10000 руб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5"/>
          <p:cNvSpPr/>
          <p:nvPr/>
        </p:nvSpPr>
        <p:spPr>
          <a:xfrm>
            <a:off x="3059280" y="21337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"/>
          <p:cNvSpPr/>
          <p:nvPr/>
        </p:nvSpPr>
        <p:spPr>
          <a:xfrm flipH="1">
            <a:off x="2959200" y="2276640"/>
            <a:ext cx="4190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179280" y="2565360"/>
            <a:ext cx="38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жемесячно на страхо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сть по 1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3995640" y="299736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4932360" y="2565360"/>
            <a:ext cx="367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од – 1920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 flipH="1">
            <a:off x="4903560" y="3357720"/>
            <a:ext cx="6318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179280" y="371628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П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1332000" y="39337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3"/>
          <p:cNvSpPr/>
          <p:nvPr/>
        </p:nvSpPr>
        <p:spPr>
          <a:xfrm>
            <a:off x="1763640" y="4076640"/>
            <a:ext cx="172872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1908000" y="3573360"/>
            <a:ext cx="12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9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1692360" y="422100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6%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6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780000" y="3860640"/>
            <a:ext cx="502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4788000" y="393372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4284720" y="3933720"/>
            <a:ext cx="5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9"/>
          <p:cNvSpPr/>
          <p:nvPr/>
        </p:nvSpPr>
        <p:spPr>
          <a:xfrm>
            <a:off x="5292720" y="393372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,9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0" y="5516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нормам Федерального закона от 17.12.2001 № 173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1"/>
          <p:cNvSpPr/>
          <p:nvPr/>
        </p:nvSpPr>
        <p:spPr>
          <a:xfrm>
            <a:off x="395280" y="602136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мер сост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2"/>
          <p:cNvSpPr/>
          <p:nvPr/>
        </p:nvSpPr>
        <p:spPr>
          <a:xfrm>
            <a:off x="1440000" y="4859280"/>
            <a:ext cx="611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,9 балл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64.10 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21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уб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9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оп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3"/>
          <p:cNvSpPr/>
          <p:nvPr/>
        </p:nvSpPr>
        <p:spPr>
          <a:xfrm>
            <a:off x="5940360" y="4508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4"/>
          <p:cNvSpPr/>
          <p:nvPr/>
        </p:nvSpPr>
        <p:spPr>
          <a:xfrm>
            <a:off x="3203640" y="5950080"/>
            <a:ext cx="15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9,200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5"/>
          <p:cNvSpPr/>
          <p:nvPr/>
        </p:nvSpPr>
        <p:spPr>
          <a:xfrm>
            <a:off x="3132000" y="6308640"/>
            <a:ext cx="172908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6"/>
          <p:cNvSpPr/>
          <p:nvPr/>
        </p:nvSpPr>
        <p:spPr>
          <a:xfrm>
            <a:off x="3276720" y="6381720"/>
            <a:ext cx="1441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-2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7"/>
          <p:cNvSpPr/>
          <p:nvPr/>
        </p:nvSpPr>
        <p:spPr>
          <a:xfrm>
            <a:off x="5003640" y="616572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8"/>
          <p:cNvSpPr/>
          <p:nvPr/>
        </p:nvSpPr>
        <p:spPr>
          <a:xfrm>
            <a:off x="5508720" y="609300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руб. 21 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61880" cy="1342800"/>
          </a:xfrm>
          <a:prstGeom prst="rect">
            <a:avLst/>
          </a:prstGeom>
          <a:ln w="0">
            <a:noFill/>
          </a:ln>
        </p:spPr>
      </p:pic>
      <p:sp>
        <p:nvSpPr>
          <p:cNvPr id="594" name="Oval 30"/>
          <p:cNvSpPr/>
          <p:nvPr/>
        </p:nvSpPr>
        <p:spPr>
          <a:xfrm>
            <a:off x="5219640" y="3780000"/>
            <a:ext cx="216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762120" y="365040"/>
            <a:ext cx="7772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914400" y="152280"/>
            <a:ext cx="7772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179280" y="0"/>
            <a:ext cx="86407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 расчета ИП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ля лиц, з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рых взносы на формирование накопитель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ти не начис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2268360" y="1628640"/>
            <a:ext cx="403236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/П – 25000 ру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305928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 flipH="1">
            <a:off x="2916360" y="256536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179280" y="2997360"/>
            <a:ext cx="381636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месячно на страхо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о 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4140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76720" y="2997360"/>
            <a:ext cx="3672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д – 4800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 flipH="1">
            <a:off x="4500720" y="3860640"/>
            <a:ext cx="107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1042920" y="508464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2411280" y="530064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2987640" y="5445000"/>
            <a:ext cx="1728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5"/>
          <p:cNvSpPr/>
          <p:nvPr/>
        </p:nvSpPr>
        <p:spPr>
          <a:xfrm>
            <a:off x="3276720" y="486900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6"/>
          <p:cNvSpPr/>
          <p:nvPr/>
        </p:nvSpPr>
        <p:spPr>
          <a:xfrm>
            <a:off x="2916360" y="5589720"/>
            <a:ext cx="20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6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5148360" y="522936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6443640" y="5229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5796000" y="5229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0"/>
          <p:cNvSpPr/>
          <p:nvPr/>
        </p:nvSpPr>
        <p:spPr>
          <a:xfrm>
            <a:off x="6948360" y="5229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8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"/>
          <p:cNvSpPr/>
          <p:nvPr/>
        </p:nvSpPr>
        <p:spPr>
          <a:xfrm>
            <a:off x="1800360" y="214200"/>
            <a:ext cx="71532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Граждане, являющиеся получателями пенсии на 31.12.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"/>
          <p:cNvSpPr/>
          <p:nvPr/>
        </p:nvSpPr>
        <p:spPr>
          <a:xfrm>
            <a:off x="4610160" y="1357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181160" y="173844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Перевод пенсии на 31.12.2014г. в ИПК (балл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(стоимость ИПК на 01.01.2015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64,10 руб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:пенсия (без базовой части ФБР) 7000: 64,10 =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109,204бал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801720" y="364320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Корректировка страховой пенсии (в связи с изменением стоимости ИПК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с 01 февраля и с 01 апреля - ежег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Индексация фиксированной выпл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с 01 февраля (ежегодно) и с 01 апреля (дополни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66760" y="55483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Возможность отказ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от получаемой 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c 01.01.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3238560" y="5776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бону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5373720" y="524340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повышающий 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4381560" y="5452560"/>
            <a:ext cx="83808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381560" y="615780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5450040" y="603252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изменение ИПК( по данным ИЛ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4152960" y="280512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2"/>
          <p:cNvSpPr/>
          <p:nvPr/>
        </p:nvSpPr>
        <p:spPr>
          <a:xfrm>
            <a:off x="4078440" y="4633920"/>
            <a:ext cx="761760" cy="76212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3"/>
          <p:cNvSpPr/>
          <p:nvPr/>
        </p:nvSpPr>
        <p:spPr>
          <a:xfrm>
            <a:off x="2859120" y="547200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720720" y="1455840"/>
            <a:ext cx="8229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Перерасчет работающим пенсионерам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  <a:ea typeface="Arial Unicode MS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801720" y="246204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рерасчет по данным ИЛС  с 01 августа (ежегодн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Arial Unicode MS"/>
              </a:rPr>
              <a:t>(в баллах)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3"/>
          <p:cNvSpPr/>
          <p:nvPr/>
        </p:nvSpPr>
        <p:spPr>
          <a:xfrm flipH="1">
            <a:off x="2153880" y="3681360"/>
            <a:ext cx="148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4"/>
          <p:cNvSpPr/>
          <p:nvPr/>
        </p:nvSpPr>
        <p:spPr>
          <a:xfrm>
            <a:off x="5145120" y="368136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801720" y="4443480"/>
            <a:ext cx="342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Не более 3 (~18 тыс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ри отсутств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нсионных накоплений (Н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4991040" y="4443480"/>
            <a:ext cx="342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Не более 1,875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~ 1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тыс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ри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нсионных нако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7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"/>
          <p:cNvSpPr/>
          <p:nvPr/>
        </p:nvSpPr>
        <p:spPr>
          <a:xfrm>
            <a:off x="38160" y="33480"/>
            <a:ext cx="9144000" cy="68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Arial Unicode MS"/>
              </a:rPr>
              <a:t>В страховой стаж наравне с периодами работы и  ( или) иной деятельности засчитываются иные период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рохождение военной служб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получения пособия по обязательному пенсионному страхованию в период временной нетрудоспос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ухода одного из родителей за каждым ребенком до достижения возраста полутора лет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ahoma"/>
                <a:ea typeface="Arial Unicode MS"/>
              </a:rPr>
              <a:t>но не более 6 лет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получения пособия по безработице, период участия в оплачиваемых общественных работах и период переезда или переселения по направлению государственной службы занятости в другую местность для трудоустр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 период содержания под стражей лиц, необоснованно привлеченных к уголовной ответственности, репрессированных и впоследствии реабилитированных, и период отбывания наказания этими лицами в местах лишения свободы или ссылке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ухода за инвалидом I группы, ребенком-инвалидом или за лицом, достигшим возраста 80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проживания супругов военнослужащих вместе с супругами в местностях, где они не могли трудиться, но не более 5 лет в общей сл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- период проживания за границей супругов работников, направленных в дипломатические представительства и консульские учреждения РФ, представительства РФ при международных организациях, торговые представительства РФ в иностранных государствах и т. д., но не более 5 лет в общей сло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1979640" y="189000"/>
            <a:ext cx="69850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пi - коэффициент за пол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лендарный год ин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60360" y="1500120"/>
            <a:ext cx="85694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1,8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.1, 6-8 части 1 ст.12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жба в армии, ух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нетрудоспособным, проживание с супругом  военнослу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жащим,  проживание с супругом, направленным на рабо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границу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1,8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ношении периода ухода од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 родителей за 1-м ребенком до 1,5 л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другие иные перио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3,6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иод ухода за 2-м ребенком до 1, 5 ле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5,4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иод ухода за 3-м или 4-м ребен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 1,5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один месяц- 1/12 НП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один день-   1/360 НП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8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93" name="AutoShape 9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12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5"/>
          <p:cNvSpPr/>
          <p:nvPr/>
        </p:nvSpPr>
        <p:spPr>
          <a:xfrm>
            <a:off x="0" y="108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остоит из дву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079640" y="22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исок должностей и учрежд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твержденный Постановлением Правительства РФ от 29.10.2002 г. № 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8"/>
          <p:cNvSpPr/>
          <p:nvPr/>
        </p:nvSpPr>
        <p:spPr>
          <a:xfrm>
            <a:off x="358920" y="1484280"/>
            <a:ext cx="3816360" cy="38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ервая часть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ключает перечень наименований должностей           (п. 1 раздела "Наименование должностей"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 учреждений (пп. 1.1 - 1.14 раздела "Наименование учреждений"), касающийся всех типов учреждений для детей, </a:t>
            </a:r>
            <a:r>
              <a:rPr b="1" i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 исключением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учреждений дополнительного образования детей (т.е. внешкольных учрежде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9"/>
          <p:cNvSpPr/>
          <p:nvPr/>
        </p:nvSpPr>
        <p:spPr>
          <a:xfrm>
            <a:off x="5040360" y="1484280"/>
            <a:ext cx="3743280" cy="3852720"/>
          </a:xfrm>
          <a:custGeom>
            <a:avLst/>
            <a:gdLst>
              <a:gd name="textAreaLeft" fmla="*/ 182520 w 3743280"/>
              <a:gd name="textAreaRight" fmla="*/ 3560760 w 3743280"/>
              <a:gd name="textAreaTop" fmla="*/ 182520 h 3852720"/>
              <a:gd name="textAreaBottom" fmla="*/ 3670200 h 3852720"/>
            </a:gdLst>
            <a:ahLst/>
            <a:rect l="textAreaLeft" t="textAreaTop" r="textAreaRight" b="textAreaBottom"/>
            <a:pathLst>
              <a:path w="21600" h="22231">
                <a:moveTo>
                  <a:pt x="3600" y="0"/>
                </a:moveTo>
                <a:arcTo wR="3600" hR="3600" stAng="16200000" swAng="-5400000"/>
                <a:lnTo>
                  <a:pt x="0" y="18631"/>
                </a:lnTo>
                <a:arcTo wR="3600" hR="3600" stAng="10800000" swAng="-5400000"/>
                <a:lnTo>
                  <a:pt x="18000" y="22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торая часть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освящена учреждениям дополнительного образования детей (внешкольным учреждениям) - п. 2 раздела "Наименование должностей" и п. 2 раздела "Наименование учреждений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250920" y="5481720"/>
            <a:ext cx="88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оответственно,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. 1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должностей» применяется в совокупности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с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п. 1.1 - 1.14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учреждений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п. 2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"Наименование должностей" - только с </a:t>
            </a: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п. 2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 раздела «Наименование учреждени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3"/>
          <p:cNvSpPr/>
          <p:nvPr/>
        </p:nvSpPr>
        <p:spPr>
          <a:xfrm>
            <a:off x="4176720" y="3249720"/>
            <a:ext cx="863640" cy="395280"/>
          </a:xfrm>
          <a:prstGeom prst="leftRightArrow">
            <a:avLst>
              <a:gd name="adj1" fmla="val 50000"/>
              <a:gd name="adj2" fmla="val 43495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 flipH="1">
            <a:off x="4248000" y="2997360"/>
            <a:ext cx="719280" cy="90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4248000" y="2997360"/>
            <a:ext cx="755640" cy="90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1"/>
          <p:cNvSpPr/>
          <p:nvPr/>
        </p:nvSpPr>
        <p:spPr>
          <a:xfrm>
            <a:off x="1496880" y="573120"/>
            <a:ext cx="630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Arial Unicode MS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Определение ИПК за периоды у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за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525600" y="1878120"/>
            <a:ext cx="84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236520" y="620640"/>
            <a:ext cx="8728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1-ый ребенок-1,8 баллов за 1 год+0,9 баллов за 6 мес.=2,7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2-ый  ребенок-3,6 баллов за 1 год+1,8 баллов за 6 мес.=5,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3-ый ребенок-5,4 баллов за 1 год +2,7 баллов за 6 мес.=8,1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4-ый ребенок -5,4 баллов за 1 год +2,7 баллов за 6 мес.=8,1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Сумма баллов за нестраховые периоды  составила 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 Unicode MS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Arial Unicode MS"/>
              </a:rPr>
              <a:t>24,3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  <a:ea typeface="Arial Unicode MS"/>
              </a:rPr>
              <a:t>Возмещение за нестраховые периоды составило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36520" y="5073480"/>
            <a:ext cx="3959280" cy="12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Федеральный закон №400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Arial Unicode MS"/>
              </a:rPr>
              <a:t>24,3х64,10=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  <a:ea typeface="Arial Unicode MS"/>
              </a:rPr>
              <a:t>1557,63 ру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4376880" y="5073480"/>
            <a:ext cx="4319280" cy="12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Федеральный закон №173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За 4,5 года ухода за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ahoma"/>
                <a:ea typeface="Arial Unicode MS"/>
              </a:rPr>
              <a:t>309,44 ру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6"/>
          <p:cNvSpPr/>
          <p:nvPr/>
        </p:nvSpPr>
        <p:spPr>
          <a:xfrm>
            <a:off x="6875640" y="3249720"/>
            <a:ext cx="2160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7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179280" y="692280"/>
            <a:ext cx="8964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благовременная подготовка документов на пен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одится з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 месяц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о наступления права на пенсию – застрахованным лицам направляются памя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ам следует заранее ( не позднее, чем з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 месяц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о даты наступления права на пенсию) обратиться в территориальный орган Пенсионного фонда РФ по месту жительства для проведения предварительной работы по проверке и подготовке документов к назначению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87280" y="189000"/>
            <a:ext cx="8677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 проведении такой работы  осуществляе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ценка сведений о трудовом  стаже, заработн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лате гражданина,  и других факторов, о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торых зависит  не только право, но  и разме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нс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бращение в территориальный орган ПФ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ля предварительной проверки документов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зволит заранее, до момента возникнове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а на пенсию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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оверить наличие и качество содержа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сех необходимых для назначения пенсии   докумен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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нять меры к заблаговременному получению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(при необходимости) дополнительных докумен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Это крайне важно, в особенности для граждан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рудовая деятельность которых  протекала 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х регионах, в странах бывшего СССР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 также для граждан, претендующих на досрочное пенсионное обеспече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62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электронного межведомственного взаимодействия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СМЭ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государственными органами, органами местного самоуправл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мках СМЭВ ПФР самостоятельно запрашивает у других ведомств сведения, находящиеся в их распоряжен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ое взаимодействие с архивными учреждениям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– граждане тратят меньше времени на получение справок и документов, необходимых для назначения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072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 организации электронного информационного взаимодействия территориальных органов ПФР и работодателей по представлению документов, необходимых для назначения пенс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42160" cy="57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99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каз Президента РФ от 07.05.2012 г. № 60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9872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7"/>
          <p:cNvSpPr/>
          <p:nvPr/>
        </p:nvSpPr>
        <p:spPr>
          <a:xfrm>
            <a:off x="539640" y="2133720"/>
            <a:ext cx="813780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99"/>
                </a:solidFill>
                <a:uFillTx/>
                <a:latin typeface="Arial"/>
              </a:rPr>
              <a:t>Целевые показатели оценки качества предоставления гос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8"/>
          <p:cNvSpPr/>
          <p:nvPr/>
        </p:nvSpPr>
        <p:spPr>
          <a:xfrm>
            <a:off x="1619280" y="4365720"/>
            <a:ext cx="4465440" cy="8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едоставление услуг в электронной 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9"/>
          <p:cNvSpPr/>
          <p:nvPr/>
        </p:nvSpPr>
        <p:spPr>
          <a:xfrm>
            <a:off x="1692360" y="3284640"/>
            <a:ext cx="4392360" cy="8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уровень удовлетворенности качеством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0"/>
          <p:cNvSpPr/>
          <p:nvPr/>
        </p:nvSpPr>
        <p:spPr>
          <a:xfrm>
            <a:off x="1619280" y="5445000"/>
            <a:ext cx="4465440" cy="8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ожидание в очере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1"/>
          <p:cNvSpPr/>
          <p:nvPr/>
        </p:nvSpPr>
        <p:spPr>
          <a:xfrm>
            <a:off x="6443640" y="3429000"/>
            <a:ext cx="2449440" cy="574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 менее 9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3"/>
          <p:cNvSpPr/>
          <p:nvPr/>
        </p:nvSpPr>
        <p:spPr>
          <a:xfrm>
            <a:off x="6443640" y="4508640"/>
            <a:ext cx="2449440" cy="574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 менее 7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4"/>
          <p:cNvSpPr/>
          <p:nvPr/>
        </p:nvSpPr>
        <p:spPr>
          <a:xfrm>
            <a:off x="6443640" y="5589720"/>
            <a:ext cx="2449440" cy="574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о 15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5"/>
          <p:cNvSpPr/>
          <p:nvPr/>
        </p:nvSpPr>
        <p:spPr>
          <a:xfrm>
            <a:off x="179280" y="350028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2018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6"/>
          <p:cNvSpPr/>
          <p:nvPr/>
        </p:nvSpPr>
        <p:spPr>
          <a:xfrm>
            <a:off x="179280" y="458136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2018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7"/>
          <p:cNvSpPr/>
          <p:nvPr/>
        </p:nvSpPr>
        <p:spPr>
          <a:xfrm>
            <a:off x="179280" y="566100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20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8"/>
          <p:cNvSpPr/>
          <p:nvPr/>
        </p:nvSpPr>
        <p:spPr>
          <a:xfrm>
            <a:off x="6084720" y="357336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0"/>
          <p:cNvSpPr/>
          <p:nvPr/>
        </p:nvSpPr>
        <p:spPr>
          <a:xfrm>
            <a:off x="6084720" y="465300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1"/>
          <p:cNvSpPr/>
          <p:nvPr/>
        </p:nvSpPr>
        <p:spPr>
          <a:xfrm>
            <a:off x="6084720" y="573408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987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324000" y="1413000"/>
            <a:ext cx="4032000" cy="1922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ее количество работодателей региона, представляющих отчетность в ПФР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4788000" y="1413000"/>
            <a:ext cx="3959280" cy="2654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работодателей региона, представляющих отчетность в ПФР по телекоммуникационным каналам связи с ЭП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1765 (7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788000" y="4292640"/>
            <a:ext cx="3959280" cy="1922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граждан, уходящих на пенсию в 2014-2015 гг.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22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из них работающих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коло 4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7"/>
          <p:cNvGraphicFramePr/>
          <p:nvPr/>
        </p:nvGraphicFramePr>
        <p:xfrm>
          <a:off x="179280" y="3429000"/>
          <a:ext cx="4413240" cy="33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429000"/>
                    <a:ext cx="441324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6880" cy="1151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99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Взаимодействие с работодателями в рамках передачи документов для заблаговременной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083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9"/>
          <p:cNvSpPr/>
          <p:nvPr/>
        </p:nvSpPr>
        <p:spPr>
          <a:xfrm>
            <a:off x="179280" y="2924280"/>
            <a:ext cx="1728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дров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2195640" y="2924280"/>
            <a:ext cx="17269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ераторы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4211640" y="2924280"/>
            <a:ext cx="1728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деление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7020000" y="2349360"/>
            <a:ext cx="1728720" cy="115272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6300720" y="2924280"/>
            <a:ext cx="1728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6659640" y="2637000"/>
            <a:ext cx="1728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(О)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7"/>
          <p:cNvSpPr/>
          <p:nvPr/>
        </p:nvSpPr>
        <p:spPr>
          <a:xfrm>
            <a:off x="611280" y="4941720"/>
            <a:ext cx="1368360" cy="115272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8"/>
          <p:cNvSpPr/>
          <p:nvPr/>
        </p:nvSpPr>
        <p:spPr>
          <a:xfrm>
            <a:off x="395280" y="5229360"/>
            <a:ext cx="144000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9"/>
          <p:cNvSpPr/>
          <p:nvPr/>
        </p:nvSpPr>
        <p:spPr>
          <a:xfrm>
            <a:off x="179280" y="5516640"/>
            <a:ext cx="151308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лужбы заня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2556000" y="4941720"/>
            <a:ext cx="1439640" cy="115272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1"/>
          <p:cNvSpPr/>
          <p:nvPr/>
        </p:nvSpPr>
        <p:spPr>
          <a:xfrm>
            <a:off x="2340000" y="5229360"/>
            <a:ext cx="151128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2"/>
          <p:cNvSpPr/>
          <p:nvPr/>
        </p:nvSpPr>
        <p:spPr>
          <a:xfrm>
            <a:off x="2124000" y="5516640"/>
            <a:ext cx="158436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рхивные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3"/>
          <p:cNvSpPr/>
          <p:nvPr/>
        </p:nvSpPr>
        <p:spPr>
          <a:xfrm>
            <a:off x="4572000" y="4941720"/>
            <a:ext cx="792000" cy="115272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4"/>
          <p:cNvSpPr/>
          <p:nvPr/>
        </p:nvSpPr>
        <p:spPr>
          <a:xfrm>
            <a:off x="4356000" y="5229360"/>
            <a:ext cx="86364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5"/>
          <p:cNvSpPr/>
          <p:nvPr/>
        </p:nvSpPr>
        <p:spPr>
          <a:xfrm>
            <a:off x="4140360" y="5516640"/>
            <a:ext cx="93636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6"/>
          <p:cNvSpPr/>
          <p:nvPr/>
        </p:nvSpPr>
        <p:spPr>
          <a:xfrm>
            <a:off x="5867280" y="4869000"/>
            <a:ext cx="720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7"/>
          <p:cNvSpPr/>
          <p:nvPr/>
        </p:nvSpPr>
        <p:spPr>
          <a:xfrm>
            <a:off x="5651640" y="5229360"/>
            <a:ext cx="72072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8"/>
          <p:cNvSpPr/>
          <p:nvPr/>
        </p:nvSpPr>
        <p:spPr>
          <a:xfrm>
            <a:off x="5508720" y="5516640"/>
            <a:ext cx="792000" cy="1152360"/>
          </a:xfrm>
          <a:prstGeom prst="rect">
            <a:avLst/>
          </a:prstGeom>
          <a:solidFill>
            <a:srgbClr val="dddddd">
              <a:alpha val="71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С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aptop"/>
          <p:cNvSpPr/>
          <p:nvPr/>
        </p:nvSpPr>
        <p:spPr>
          <a:xfrm>
            <a:off x="6443640" y="4437000"/>
            <a:ext cx="2700360" cy="2160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ет электронного выплатного  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32"/>
          <p:cNvSpPr/>
          <p:nvPr/>
        </p:nvSpPr>
        <p:spPr>
          <a:xfrm>
            <a:off x="1547640" y="4076640"/>
            <a:ext cx="1152720" cy="28908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99ccff"/>
              </a:gs>
              <a:gs pos="100000">
                <a:srgbClr val="3366cc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4"/>
          <p:cNvSpPr/>
          <p:nvPr/>
        </p:nvSpPr>
        <p:spPr>
          <a:xfrm>
            <a:off x="3564000" y="4076640"/>
            <a:ext cx="1225440" cy="28908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99ccff"/>
              </a:gs>
              <a:gs pos="100000">
                <a:srgbClr val="3366cc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35"/>
          <p:cNvSpPr/>
          <p:nvPr/>
        </p:nvSpPr>
        <p:spPr>
          <a:xfrm>
            <a:off x="5580000" y="4076640"/>
            <a:ext cx="1225440" cy="28908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99ccff"/>
              </a:gs>
              <a:gs pos="100000">
                <a:srgbClr val="3366cc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8"/>
          <p:cNvSpPr/>
          <p:nvPr/>
        </p:nvSpPr>
        <p:spPr>
          <a:xfrm rot="10800000">
            <a:off x="5435640" y="2637000"/>
            <a:ext cx="1225440" cy="28728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9999"/>
              </a:gs>
              <a:gs pos="100000">
                <a:srgbClr val="ff5050"/>
              </a:gs>
            </a:gsLst>
            <a:lin ang="16200000"/>
          </a:gra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9"/>
          <p:cNvSpPr/>
          <p:nvPr/>
        </p:nvSpPr>
        <p:spPr>
          <a:xfrm rot="10800000">
            <a:off x="3348000" y="2637000"/>
            <a:ext cx="1225440" cy="28728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9999"/>
              </a:gs>
              <a:gs pos="100000">
                <a:srgbClr val="ff5050"/>
              </a:gs>
            </a:gsLst>
            <a:lin ang="16200000"/>
          </a:gra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40"/>
          <p:cNvSpPr/>
          <p:nvPr/>
        </p:nvSpPr>
        <p:spPr>
          <a:xfrm rot="10800000">
            <a:off x="1332000" y="2637000"/>
            <a:ext cx="1225440" cy="28728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50000">
                <a:srgbClr val="ff9999"/>
              </a:gs>
              <a:gs pos="100000">
                <a:srgbClr val="ff5050"/>
              </a:gs>
            </a:gsLst>
            <a:lin ang="16200000"/>
          </a:gra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42"/>
          <p:cNvSpPr/>
          <p:nvPr/>
        </p:nvSpPr>
        <p:spPr>
          <a:xfrm>
            <a:off x="7596360" y="4076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43"/>
          <p:cNvSpPr/>
          <p:nvPr/>
        </p:nvSpPr>
        <p:spPr>
          <a:xfrm flipV="1">
            <a:off x="1332000" y="3573000"/>
            <a:ext cx="4968720" cy="1295640"/>
          </a:xfrm>
          <a:prstGeom prst="line">
            <a:avLst/>
          </a:prstGeom>
          <a:ln w="158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4"/>
          <p:cNvSpPr/>
          <p:nvPr/>
        </p:nvSpPr>
        <p:spPr>
          <a:xfrm flipV="1">
            <a:off x="3276720" y="3645000"/>
            <a:ext cx="3024000" cy="1296720"/>
          </a:xfrm>
          <a:prstGeom prst="line">
            <a:avLst/>
          </a:prstGeom>
          <a:ln w="158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5"/>
          <p:cNvSpPr/>
          <p:nvPr/>
        </p:nvSpPr>
        <p:spPr>
          <a:xfrm flipV="1">
            <a:off x="4932360" y="3716280"/>
            <a:ext cx="1368360" cy="1225440"/>
          </a:xfrm>
          <a:prstGeom prst="line">
            <a:avLst/>
          </a:prstGeom>
          <a:ln w="158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46"/>
          <p:cNvSpPr/>
          <p:nvPr/>
        </p:nvSpPr>
        <p:spPr>
          <a:xfrm flipV="1">
            <a:off x="6227640" y="3789000"/>
            <a:ext cx="73080" cy="1079640"/>
          </a:xfrm>
          <a:prstGeom prst="line">
            <a:avLst/>
          </a:prstGeom>
          <a:ln w="158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9872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6880" cy="574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99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имущества электронного взаимо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7"/>
          <p:cNvSpPr/>
          <p:nvPr/>
        </p:nvSpPr>
        <p:spPr>
          <a:xfrm>
            <a:off x="395280" y="1844640"/>
            <a:ext cx="3745080" cy="432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Для работодате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5003640" y="1844640"/>
            <a:ext cx="3745080" cy="432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Для работник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9"/>
          <p:cNvSpPr/>
          <p:nvPr/>
        </p:nvSpPr>
        <p:spPr>
          <a:xfrm>
            <a:off x="5076720" y="2492280"/>
            <a:ext cx="3600720" cy="64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экономия рабоч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реме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"/>
          <p:cNvSpPr/>
          <p:nvPr/>
        </p:nvSpPr>
        <p:spPr>
          <a:xfrm>
            <a:off x="395280" y="249228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экономия рабоч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ремени специалиста О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2"/>
          <p:cNvSpPr/>
          <p:nvPr/>
        </p:nvSpPr>
        <p:spPr>
          <a:xfrm>
            <a:off x="395280" y="4581360"/>
            <a:ext cx="3600360" cy="865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оложительный социальный имидж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3"/>
          <p:cNvSpPr/>
          <p:nvPr/>
        </p:nvSpPr>
        <p:spPr>
          <a:xfrm>
            <a:off x="5076720" y="3357720"/>
            <a:ext cx="3600720" cy="865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одготовка полного комплекта документов для назначения пенс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5076720" y="4437000"/>
            <a:ext cx="3600720" cy="1152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сокращение времени ожидания в очереди в момент обращения за назначением пенси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5"/>
          <p:cNvSpPr/>
          <p:nvPr/>
        </p:nvSpPr>
        <p:spPr>
          <a:xfrm>
            <a:off x="395280" y="3357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отсутствие издержек, связанных с отвлечением работников от работ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6"/>
          <p:cNvSpPr/>
          <p:nvPr/>
        </p:nvSpPr>
        <p:spPr>
          <a:xfrm rot="5400000">
            <a:off x="2122920" y="2204280"/>
            <a:ext cx="215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9"/>
          <p:cNvSpPr/>
          <p:nvPr/>
        </p:nvSpPr>
        <p:spPr>
          <a:xfrm rot="5400000">
            <a:off x="2122560" y="3069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20"/>
          <p:cNvSpPr/>
          <p:nvPr/>
        </p:nvSpPr>
        <p:spPr>
          <a:xfrm rot="5400000">
            <a:off x="2122920" y="4293360"/>
            <a:ext cx="215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21"/>
          <p:cNvSpPr/>
          <p:nvPr/>
        </p:nvSpPr>
        <p:spPr>
          <a:xfrm rot="5400000">
            <a:off x="6731640" y="2204280"/>
            <a:ext cx="2156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2"/>
          <p:cNvSpPr/>
          <p:nvPr/>
        </p:nvSpPr>
        <p:spPr>
          <a:xfrm rot="5400000">
            <a:off x="6731280" y="3069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4"/>
          <p:cNvSpPr/>
          <p:nvPr/>
        </p:nvSpPr>
        <p:spPr>
          <a:xfrm rot="5400000">
            <a:off x="6731280" y="414864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5"/>
          <p:cNvSpPr/>
          <p:nvPr/>
        </p:nvSpPr>
        <p:spPr>
          <a:xfrm>
            <a:off x="4067280" y="2708280"/>
            <a:ext cx="1009440" cy="289080"/>
          </a:xfrm>
          <a:prstGeom prst="leftRightArrow">
            <a:avLst>
              <a:gd name="adj1" fmla="val 50000"/>
              <a:gd name="adj2" fmla="val 6951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6"/>
          <p:cNvSpPr/>
          <p:nvPr/>
        </p:nvSpPr>
        <p:spPr>
          <a:xfrm rot="5400000">
            <a:off x="4356720" y="3501000"/>
            <a:ext cx="503280" cy="4680000"/>
          </a:xfrm>
          <a:custGeom>
            <a:avLst/>
            <a:gdLst>
              <a:gd name="textAreaLeft" fmla="*/ 0 w 503280"/>
              <a:gd name="textAreaRight" fmla="*/ 181800 w 5032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7"/>
          <p:cNvSpPr/>
          <p:nvPr/>
        </p:nvSpPr>
        <p:spPr>
          <a:xfrm>
            <a:off x="179280" y="6093000"/>
            <a:ext cx="8785440" cy="64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овышение качества предоставления госуслуг по назначению пенсии на территории регио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Рисунок 6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50520" cy="109872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10"/>
          <p:cNvSpPr/>
          <p:nvPr/>
        </p:nvSpPr>
        <p:spPr>
          <a:xfrm>
            <a:off x="539640" y="2997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07" name="AutoShape 5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8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2"/>
          <p:cNvSpPr/>
          <p:nvPr/>
        </p:nvSpPr>
        <p:spPr>
          <a:xfrm>
            <a:off x="216000" y="1125360"/>
            <a:ext cx="878508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бязательное условие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нятие штатной должности !!!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ериоды работы в должностях в учреждениях, указанных в списке, начина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 01.09.2000 г.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засчитываются в стаж работы при условии ее выполн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 ставку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за исключением следующих случа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324000" y="4653000"/>
            <a:ext cx="6553080" cy="1909800"/>
          </a:xfrm>
          <a:prstGeom prst="rightArrowCallout">
            <a:avLst>
              <a:gd name="adj1" fmla="val 25002"/>
              <a:gd name="adj2" fmla="val 25000"/>
              <a:gd name="adj3" fmla="val 57188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учителем начальных классов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общеобразовательных учреждени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 1.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учителем общеобразовательных школ всех наименований, расположенных в сельской местности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(за исключением вечерних (сменных) и открытых (сменных)                                                                 общеобразовательных шко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6912000" y="4616280"/>
            <a:ext cx="190800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объема выполняемой учебной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324000" y="2637000"/>
            <a:ext cx="6553080" cy="1801800"/>
          </a:xfrm>
          <a:prstGeom prst="rightArrowCallout">
            <a:avLst>
              <a:gd name="adj1" fmla="val 25002"/>
              <a:gd name="adj2" fmla="val 25000"/>
              <a:gd name="adj3" fmla="val 60616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музыкальным руководителе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образовательных учреждениях для детей, нуждающихся в психолого - педагогической и медико - социальной помощ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 1.11)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, в учреждениях социального обслужива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1.1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6912000" y="2492280"/>
            <a:ext cx="1908000" cy="1908360"/>
          </a:xfrm>
          <a:custGeom>
            <a:avLst/>
            <a:gdLst>
              <a:gd name="textAreaLeft" fmla="*/ 92880 w 1908000"/>
              <a:gd name="textAreaRight" fmla="*/ 1815120 w 1908000"/>
              <a:gd name="textAreaTop" fmla="*/ 92880 h 1908360"/>
              <a:gd name="textAreaBottom" fmla="*/ 1815480 h 190836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 ставка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зависимо от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19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16000" y="14493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Кроме этого, в специальный стаж засчитыв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6696000" y="3068640"/>
            <a:ext cx="2340000" cy="3384720"/>
          </a:xfrm>
          <a:custGeom>
            <a:avLst/>
            <a:gdLst>
              <a:gd name="textAreaLeft" fmla="*/ 114120 w 2340000"/>
              <a:gd name="textAreaRight" fmla="*/ 2225880 w 2340000"/>
              <a:gd name="textAreaTop" fmla="*/ 114120 h 3384720"/>
              <a:gd name="textAreaBottom" fmla="*/ 3270600 h 3384720"/>
            </a:gdLst>
            <a:ahLst/>
            <a:rect l="textAreaLeft" t="textAreaTop" r="textAreaRight" b="textAreaBottom"/>
            <a:pathLst>
              <a:path w="21600" h="31242">
                <a:moveTo>
                  <a:pt x="3600" y="0"/>
                </a:moveTo>
                <a:arcTo wR="3600" hR="3600" stAng="16200000" swAng="-5400000"/>
                <a:lnTo>
                  <a:pt x="0" y="27642"/>
                </a:lnTo>
                <a:arcTo wR="3600" hR="3600" stAng="10800000" swAng="-5400000"/>
                <a:lnTo>
                  <a:pt x="18000" y="31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 условии ведения преподавательской работы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 часов в неделю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                      (240 часов в год)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287280" y="1808280"/>
            <a:ext cx="6697800" cy="720720"/>
          </a:xfrm>
          <a:prstGeom prst="rightArrowCallout">
            <a:avLst>
              <a:gd name="adj1" fmla="val 25002"/>
              <a:gd name="adj2" fmla="val 25000"/>
              <a:gd name="adj3" fmla="val 154887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учреждениях зравоохранения (п.1.1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7020000" y="1665360"/>
            <a:ext cx="1981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оспитате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тарший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108000" y="2960640"/>
            <a:ext cx="2232000" cy="34560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3456000"/>
              <a:gd name="textAreaBottom" fmla="*/ 3347280 h 3456000"/>
            </a:gdLst>
            <a:ahLst/>
            <a:rect l="textAreaLeft" t="textAreaTop" r="textAreaRight" b="textAreaBottom"/>
            <a:pathLst>
              <a:path w="21600" h="33443">
                <a:moveTo>
                  <a:pt x="3600" y="0"/>
                </a:moveTo>
                <a:arcTo wR="3600" hR="3600" stAng="16200000" swAng="-5400000"/>
                <a:lnTo>
                  <a:pt x="0" y="29843"/>
                </a:lnTo>
                <a:arcTo wR="3600" hR="3600" stAng="10800000" swAng="-5400000"/>
                <a:lnTo>
                  <a:pt x="18000" y="33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едения препода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2340000" y="3033720"/>
            <a:ext cx="4427640" cy="3241800"/>
          </a:xfrm>
          <a:custGeom>
            <a:avLst/>
            <a:gdLst>
              <a:gd name="textAreaLeft" fmla="*/ 1107000 w 4427640"/>
              <a:gd name="textAreaRight" fmla="*/ 3321000 w 442764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учреждений, указанных 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1.1, 1.2 и 1.3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кром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детских домов, в том числе санаторных, специальных (коррекционных) для детей с отклонениями в развитии) 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1.4 - 1.7, 1.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79280" y="189000"/>
            <a:ext cx="8785440" cy="6551640"/>
            <a:chOff x="179280" y="189000"/>
            <a:chExt cx="8785440" cy="6551640"/>
          </a:xfrm>
        </p:grpSpPr>
        <p:sp>
          <p:nvSpPr>
            <p:cNvPr id="133" name="AutoShape 3"/>
            <p:cNvSpPr/>
            <p:nvPr/>
          </p:nvSpPr>
          <p:spPr>
            <a:xfrm>
              <a:off x="179280" y="189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"/>
            <p:cNvSpPr/>
            <p:nvPr/>
          </p:nvSpPr>
          <p:spPr>
            <a:xfrm>
              <a:off x="3995640" y="260280"/>
              <a:ext cx="4897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92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6"/>
            <p:cNvSpPr/>
            <p:nvPr/>
          </p:nvSpPr>
          <p:spPr>
            <a:xfrm>
              <a:off x="179280" y="5877000"/>
              <a:ext cx="8785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468360" y="6381720"/>
              <a:ext cx="4103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8"/>
          <p:cNvSpPr/>
          <p:nvPr/>
        </p:nvSpPr>
        <p:spPr>
          <a:xfrm>
            <a:off x="0" y="87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224000" y="225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исчисления периодов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ные Постановлением Правительства РФ от 29.10.2002 г. № 7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6767640" y="1628640"/>
            <a:ext cx="226836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 01.09.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 условии ведения преподавательской работы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 менее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60 часов в год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9280" y="4076640"/>
            <a:ext cx="6480360" cy="1008000"/>
          </a:xfrm>
          <a:prstGeom prst="rightArrowCallout">
            <a:avLst>
              <a:gd name="adj1" fmla="val 25002"/>
              <a:gd name="adj2" fmla="val 25000"/>
              <a:gd name="adj3" fmla="val 107149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етских домов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, в том числе санаторных, специальных (коррекционных) для детей с отклонениями в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6624720" y="4041720"/>
            <a:ext cx="2341440" cy="2590920"/>
          </a:xfrm>
          <a:custGeom>
            <a:avLst/>
            <a:gdLst>
              <a:gd name="textAreaLeft" fmla="*/ 114120 w 2341440"/>
              <a:gd name="textAreaRight" fmla="*/ 2227320 w 2341440"/>
              <a:gd name="textAreaTop" fmla="*/ 114120 h 2590920"/>
              <a:gd name="textAreaBottom" fmla="*/ 2476800 h 2590920"/>
            </a:gdLst>
            <a:ahLst/>
            <a:rect l="textAreaLeft" t="textAreaTop" r="textAreaRight" b="textAreaBottom"/>
            <a:pathLst>
              <a:path w="21600" h="23901">
                <a:moveTo>
                  <a:pt x="3600" y="0"/>
                </a:moveTo>
                <a:arcTo wR="3600" hR="3600" stAng="16200000" swAng="-5400000"/>
                <a:lnTo>
                  <a:pt x="0" y="20301"/>
                </a:lnTo>
                <a:arcTo wR="3600" hR="3600" stAng="10800000" swAng="-5400000"/>
                <a:lnTo>
                  <a:pt x="18000" y="2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 ставка 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 времени и ведения преподавательской работы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142920" y="1665360"/>
            <a:ext cx="2232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 01.09.2000 г.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независимо о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едения препода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376360" y="1449360"/>
            <a:ext cx="4391280" cy="2341440"/>
          </a:xfrm>
          <a:custGeom>
            <a:avLst/>
            <a:gdLst>
              <a:gd name="textAreaLeft" fmla="*/ 1097640 w 4391280"/>
              <a:gd name="textAreaRight" fmla="*/ 3293640 w 439128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учреждений среднего  профессионального образова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п. 1.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142920" y="5337000"/>
            <a:ext cx="6481800" cy="1224000"/>
          </a:xfrm>
          <a:prstGeom prst="rightArrowCallout">
            <a:avLst>
              <a:gd name="adj1" fmla="val 25002"/>
              <a:gd name="adj2" fmla="val 25000"/>
              <a:gd name="adj3" fmla="val 88260"/>
              <a:gd name="adj4" fmla="val 6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в должн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ам. директора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(начальника, заведующего)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 УР, УВР, ПР, УПР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и др. работе, связанной с образовательным (воспитательным) процессом, учреждений: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п. 1.1 - 1.7, 1.9 - 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5:29:01Z</dcterms:created>
  <dc:creator>Кудрова О.А.</dc:creator>
  <dc:description/>
  <dc:language>en-US</dc:language>
  <cp:lastModifiedBy>Дрейлинг Евгений Федорович</cp:lastModifiedBy>
  <dcterms:modified xsi:type="dcterms:W3CDTF">2014-04-25T12:10:06Z</dcterms:modified>
  <cp:revision>217</cp:revision>
  <dc:subject/>
  <dc:title>Слайд 1</dc:title>
</cp:coreProperties>
</file>